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babylache%5B1%5D.wav" ContentType="audio/x-wav"/>
  <Override PartName="/ppt/media/image8.gif" ContentType="image/gif"/>
  <Override PartName="/ppt/media/image2.gif" ContentType="image/gif"/>
  <Override PartName="/ppt/media/image3.gif" ContentType="image/gif"/>
  <Override PartName="/ppt/media/baby1.wav" ContentType="audio/x-wav"/>
  <Override PartName="/ppt/media/image7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112-851B-491D-84EA-15788385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0F9-3A12-4EE1-B15B-FE5DD8D9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17F-F261-4ACF-BEAF-FB778367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AFD-6DF2-4296-954D-97A098E3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C9D9-6A85-437C-BC88-873BE9B4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1FEE-A1CF-4B50-87C2-F96648B1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F042-CF65-432F-A829-5B7177BE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A754-FD3E-4509-8C89-77A43F62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A8D2-5304-4B02-AC22-F48BB9C2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08DA-3BCF-4641-BE3B-93B8AEFA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7869-3D8B-4558-BC88-F656E051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C6F-8810-4A6A-A1F3-BCBE20DD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353B-5BD8-45AB-9B64-C9857619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9B17-55E1-4F17-9B30-5D418BEE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6056-604A-4756-B183-3F30D450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B668-CF18-4758-9D05-E94E1CE6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8F8A-6790-4A35-84AB-C448F57D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3AB-43D9-4956-8362-46652FDF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A80-1824-48B7-A812-6CB93D2C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516-EC49-4816-B4D1-A7CF0DDD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368-A1D5-4839-B9C9-55933BF6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339-0DB2-4D9B-AD7B-A4DB0F2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358-CC79-4DB5-8B71-C2E8D1B1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7C3-D535-445B-AAC8-79E431A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0c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d7fefe"/>
                  </a:gs>
                  <a:gs pos="100000">
                    <a:srgbClr val="00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ffefe"/>
                  </a:gs>
                  <a:gs pos="100000">
                    <a:srgbClr val="00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9DD7-27B9-424D-BE52-F5203C9C54B6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0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0c0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d7fefe"/>
                    </a:gs>
                    <a:gs pos="100000">
                      <a:srgbClr val="00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ffefe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EE0B-D2E6-429F-ADBA-D466A1F2E518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babylache%5B1%5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baby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Περιγράφω μια ημέρα μου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209680" y="3885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Κάνε κλικ για να γράψεις το όνομά σου</a:t>
            </a:r>
            <a:r>
              <a:rPr b="0" lang="de-DE" sz="24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7:30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π.μ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2724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8: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1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π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1976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2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00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2666880" cy="21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3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15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52480" y="3728880"/>
            <a:ext cx="1981440" cy="18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6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3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314360" y="3200400"/>
            <a:ext cx="22827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8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:00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066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10:1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5</a:t>
            </a:r>
            <a:r>
              <a:rPr b="1" lang="de-DE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9900cc"/>
                </a:solidFill>
                <a:latin typeface="Arial Narrow"/>
                <a:ea typeface="Times New Roman"/>
              </a:rPr>
              <a:t>μ.μ.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90760" y="2666520"/>
            <a:ext cx="4267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Κάνε κλικ για να γράψεις το κείμενό σου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378080" y="2971800"/>
            <a:ext cx="19573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21:41:40Z</dcterms:created>
  <dc:creator>animiert von Ute.Zohles@web.de</dc:creator>
  <dc:description>www.FunFriends.de</dc:description>
  <dc:language>en-US</dc:language>
  <cp:lastModifiedBy>Βλιώρας Λαμπρος</cp:lastModifiedBy>
  <dcterms:modified xsi:type="dcterms:W3CDTF">2007-03-14T20:36:03Z</dcterms:modified>
  <cp:revision>87</cp:revision>
  <dc:subject/>
  <dc:title>Tagebuch eines Kleinkindes</dc:title>
</cp:coreProperties>
</file>