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1.wmf" ContentType="image/x-wmf"/>
  <Override PartName="/ppt/media/image32.wmf" ContentType="image/x-wmf"/>
  <Override PartName="/ppt/media/image129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3.png" ContentType="image/png"/>
  <Override PartName="/ppt/media/image134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33.wmf" ContentType="image/x-wmf"/>
  <Override PartName="/ppt/media/image40.wmf" ContentType="image/x-wmf"/>
  <Override PartName="/ppt/media/image137.wmf" ContentType="image/x-wmf"/>
  <Override PartName="/ppt/media/image47.wmf" ContentType="image/x-wmf"/>
  <Override PartName="/ppt/media/image133.wmf" ContentType="image/x-wmf"/>
  <Override PartName="/ppt/media/image41.wmf" ContentType="image/x-wmf"/>
  <Override PartName="/ppt/media/image138.wmf" ContentType="image/x-wmf"/>
  <Override PartName="/ppt/media/image48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43.wmf" ContentType="image/x-wmf"/>
  <Override PartName="/ppt/media/image51.wmf" ContentType="image/x-wmf"/>
  <Override PartName="/ppt/media/image46.wmf" ContentType="image/x-wmf"/>
  <Override PartName="/ppt/media/image132.wmf" ContentType="image/x-wmf"/>
  <Override PartName="/ppt/media/image144.wmf" ContentType="image/x-wmf"/>
  <Override PartName="/ppt/media/image5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54.wmf" ContentType="image/x-wmf"/>
  <Override PartName="/ppt/media/image53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50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2.wmf" ContentType="image/x-wmf"/>
  <Override PartName="/ppt/media/image24.wmf" ContentType="image/x-wmf"/>
  <Override PartName="/ppt/media/image94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102.png" ContentType="image/png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723438" cy="72898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092-8E32-4DFE-B0D2-E9DF66DA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421524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CAB-D412-4960-B925-88F097C4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462-86F7-4D7C-A77C-6C073D8B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E62-B7A5-4939-B94D-6D6E77B4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B6D-0527-44F0-81DE-0F7CF89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588-C83F-4DCB-9831-4DBBC40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0A4-951A-4C2A-937C-E9A6C58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A7E-6CAE-4B2F-BEDA-FE072F46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91960"/>
            <a:ext cx="8750520" cy="56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783-9C60-4453-B992-453BE969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E4D-616D-42DA-8276-39CC2AF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F9F-32BB-4AC0-8162-C2C9E5A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1BF-D672-4E46-96D7-15BF104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049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4280" indent="-2426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640200"/>
            <a:ext cx="226872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640200"/>
            <a:ext cx="307980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640200"/>
            <a:ext cx="226872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9824A57-229C-41E9-AB4B-51D87DD96EB8}" type="slidenum">
              <a:rPr b="0" lang="el-G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8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60.wmf"/><Relationship Id="rId23" Type="http://schemas.openxmlformats.org/officeDocument/2006/relationships/image" Target="../media/image61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62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63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64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65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66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67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68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69.wmf"/><Relationship Id="rId40" Type="http://schemas.openxmlformats.org/officeDocument/2006/relationships/oleObject" Target="../embeddings/oleObject19.bin"/><Relationship Id="rId41" Type="http://schemas.openxmlformats.org/officeDocument/2006/relationships/image" Target="../media/image60.wmf"/><Relationship Id="rId4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7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78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79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80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81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82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83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84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85.wmf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86.wmf"/><Relationship Id="rId39" Type="http://schemas.openxmlformats.org/officeDocument/2006/relationships/oleObject" Target="../embeddings/oleObject19.bin"/><Relationship Id="rId40" Type="http://schemas.openxmlformats.org/officeDocument/2006/relationships/image" Target="../media/image87.wmf"/><Relationship Id="rId4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1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wmf"/><Relationship Id="rId3" Type="http://schemas.openxmlformats.org/officeDocument/2006/relationships/image" Target="../media/image8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1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00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1.wmf"/><Relationship Id="rId2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wmf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6.wmf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9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5.wmf"/><Relationship Id="rId2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0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9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4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4720" y="2685960"/>
            <a:ext cx="58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ιαγώνισμ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αγνητικό Πεδίο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 θέματα από το Ψηφιακό Σχολεί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4640" y="3933720"/>
            <a:ext cx="729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πιμέλεια: Βασίλειος Ιστάπολος, Πρόδρομος Κορκίζογλου, Παναγιώτης Μπετσάκος, Ηλία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οντικό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21200" y="0"/>
            <a:ext cx="4800600" cy="3278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8280" y="2206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γωγός (Α), 1 σπείρ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5572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γωγός (Γ): 2 σπείρε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71680" y="279360"/>
          <a:ext cx="104796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1680" y="279360"/>
                    <a:ext cx="10479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133800" y="903240"/>
          <a:ext cx="150948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3800" y="903240"/>
                    <a:ext cx="1509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18960" y="1517760"/>
            <a:ext cx="18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ξισώνοντα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378240" y="1488960"/>
          <a:ext cx="946080" cy="3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8240" y="1488960"/>
                    <a:ext cx="9460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379600" y="2243160"/>
          <a:ext cx="84456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9600" y="2243160"/>
                    <a:ext cx="8445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43080" y="3935520"/>
          <a:ext cx="16858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3080" y="3935520"/>
                    <a:ext cx="168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79440" y="3036960"/>
          <a:ext cx="1328760" cy="79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9440" y="3036960"/>
                    <a:ext cx="13287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41480" y="3038400"/>
          <a:ext cx="1150920" cy="7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41480" y="3038400"/>
                    <a:ext cx="1150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30880" y="3552840"/>
          <a:ext cx="947520" cy="74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30880" y="3552840"/>
                    <a:ext cx="947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06840" y="3759120"/>
          <a:ext cx="52236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06840" y="3759120"/>
                    <a:ext cx="522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19680" y="3716280"/>
          <a:ext cx="52236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19680" y="3716280"/>
                    <a:ext cx="522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638760" y="3763800"/>
          <a:ext cx="1024200" cy="331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38760" y="3763800"/>
                    <a:ext cx="10242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423280" y="3792600"/>
          <a:ext cx="306360" cy="331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423280" y="3792600"/>
                    <a:ext cx="30636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929720" y="2155680"/>
          <a:ext cx="1792080" cy="306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929720" y="2155680"/>
                    <a:ext cx="17920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7600" y="142920"/>
            <a:ext cx="9428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O κυκλικός αγωγός ακτίν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r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ο ευθύγραμμος αγωγ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 σχήματος βρίσκονται στο ίδιο επίπεδο, με τον ευθύγραμμο να απέχε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2r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 κέντρο του κυκλικού. Ο κυκλικός αγωγός διαρρέεται από ρεύμα έντα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Ι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φορά αντίθετη αυτής των δεικτών του ρολογιού και 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υνολική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νταση του μαγνητικού πεδίου στο κέντρ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 κυκλικού αγωγού είναι ίση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ηδέ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ευθύγραμμος αγωγός διαρρέεται από ηλεκτρικό ρεύμα με φορά από το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 προς το Λ και έντασης Ι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πΙ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 προς το Λ και έντασης Ι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2πΙ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Λ προς το Κ και έντασης Ι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2πΙ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59440" y="2368440"/>
            <a:ext cx="376236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1280" y="0"/>
            <a:ext cx="4700520" cy="3722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2160" y="155520"/>
            <a:ext cx="493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Η ένταση του μαγνητικού πεδίου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σ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λόγω του κυκλικού ρευματοφόρου αγωγού έχει φορά από τη σελίδα προς τον αναγνώστ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6680" y="4417920"/>
            <a:ext cx="92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Για να συμβαίνει αυτό θα πρέπει η φορά του ρεύματος που διαρρέει το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είναι από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ρος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73120" y="5553000"/>
          <a:ext cx="92088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120" y="5553000"/>
                    <a:ext cx="9208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287880" y="5364000"/>
          <a:ext cx="227484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5364000"/>
                    <a:ext cx="22748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655640" y="5559480"/>
          <a:ext cx="130500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55640" y="5559480"/>
                    <a:ext cx="1305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789520" y="5510160"/>
          <a:ext cx="1584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89520" y="5510160"/>
                    <a:ext cx="1584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924680" y="5522760"/>
          <a:ext cx="306360" cy="35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522760"/>
                    <a:ext cx="3063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0600" y="1644480"/>
            <a:ext cx="47768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πομένως για να είναι η συνολική ένταση του μαγνητικού πεδίου σ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ίση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ηδέ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θα πρέπει το διάνυσμα της έντασης του μαγνητικού πεδίου λόγω του ευθύγραμμου ρευματοφόρου αγωγού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να έχει φορά αντίθετη, δηλαδή από τον αναγνώστη προς τη σελίδ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7080" y="190440"/>
            <a:ext cx="94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σχήμα απεικονίζονται πάνω σ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λεί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οριζόντι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πίπεδο τρεις παράλληλοι άκαμπτοι ομοεπίπεδοι ρευματοφόροι αγωγοί πολύ μεγάλου μήκους. Δύο αγωγοί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λόνητοι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ενώ ο τρίτος, παρότι είναι ελεύθερος, παραμένει επί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ο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Ο αγωγός που παραμένε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ο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αρότι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λεύθερο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 ο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27800" y="1754280"/>
            <a:ext cx="4194000" cy="393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312840" y="1941480"/>
          <a:ext cx="4016160" cy="8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1941480"/>
                    <a:ext cx="40161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2440" y="2986200"/>
          <a:ext cx="4016520" cy="89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440" y="2986200"/>
                    <a:ext cx="401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87360" y="4105440"/>
          <a:ext cx="401652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360" y="4105440"/>
                    <a:ext cx="40165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672240" y="2049480"/>
            <a:ext cx="0" cy="2763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62840" y="3170160"/>
          <a:ext cx="460080" cy="35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62840" y="3170160"/>
                    <a:ext cx="4600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97400" y="0"/>
            <a:ext cx="5167440" cy="3936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6040" y="106200"/>
            <a:ext cx="425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ι αγωγοί (1) &amp; (2) διαρρέονται από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ντίρροπ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ρεύματα, ά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πωθούνται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αξύ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5680" y="1282680"/>
            <a:ext cx="431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ι αγωγοί (2) &amp; (3)  διαρρέονται από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ομόρροπ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ρεύματα, ά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έλκονται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αξύ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520" y="2544840"/>
            <a:ext cx="433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ι αγωγοί (1) &amp; (3) διαρρέονται από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ντίρροπ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ρεύματα, ά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πωθούνται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αξύ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200" y="4025880"/>
            <a:ext cx="89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αγωγός στον οποίο οι ασκούμενες δυνάμεις έχουν αντίθετες κατευθύνσεις είναι 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3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76120" y="5062680"/>
          <a:ext cx="9716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120" y="5062680"/>
                    <a:ext cx="9716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09760" y="4834080"/>
          <a:ext cx="345456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9760" y="4834080"/>
                    <a:ext cx="345456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484280" y="5008680"/>
          <a:ext cx="15350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84280" y="5008680"/>
                    <a:ext cx="15350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646440" y="5764320"/>
          <a:ext cx="1587600" cy="89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6440" y="5764320"/>
                    <a:ext cx="1587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886440" y="4757760"/>
          <a:ext cx="2149560" cy="89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86440" y="4757760"/>
                    <a:ext cx="2149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678640" y="6075360"/>
          <a:ext cx="306360" cy="33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78640" y="6075360"/>
                    <a:ext cx="30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110280" y="378000"/>
            <a:ext cx="0" cy="2763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645160" y="1611360"/>
          <a:ext cx="46044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45160" y="1611360"/>
                    <a:ext cx="4604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0080" y="141120"/>
            <a:ext cx="9334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B4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ατακόρυφοι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αράλληλοι αγωγοί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y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A´y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υνδέονται στα άκ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ηλεκτρική πηγή ΗΕΔ (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) και εσωτερικής αντίστα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r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Ο αγωγ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έχει αντίστασ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R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άζ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μήκος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εφάπτεται στου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y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A´y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πορεί να κινείτ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χωρίς τριβέ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έσα σε ομογενές μαγνητικό πεδίο έντα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του οποίου οι δυναμικές γραμμές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άθετε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επίπεδο των αγωγώ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y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A´y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Ο αγωγ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ισορροπεί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είνουμε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διακόπτ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Θεωρούμε ότι όταν κλείνει ο διακόπτ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η δύναμη που δέχεται ο αγωγ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ξαιτίας του μαγνητικού πεδίου τ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μελητέ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αγωγ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θα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ξακολουθήσει να ισορροπεί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ινηθεί προς τα κάτω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ινηθεί προς τα πάνω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18240" y="2470320"/>
            <a:ext cx="310356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35800" y="0"/>
            <a:ext cx="22860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430200" y="615960"/>
          <a:ext cx="13809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" y="615960"/>
                    <a:ext cx="13809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82520" y="101520"/>
          <a:ext cx="23544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101520"/>
                    <a:ext cx="2354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6520" y="1447920"/>
          <a:ext cx="11253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520" y="1447920"/>
                    <a:ext cx="11253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503440" y="1020600"/>
          <a:ext cx="60660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3440" y="1020600"/>
                    <a:ext cx="6066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427560" y="898560"/>
          <a:ext cx="224928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7560" y="898560"/>
                    <a:ext cx="2249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7680" y="2540160"/>
          <a:ext cx="306720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7680" y="2540160"/>
                    <a:ext cx="3067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32320" y="98280"/>
          <a:ext cx="245412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32320" y="98280"/>
                    <a:ext cx="24541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91960" y="2039760"/>
          <a:ext cx="2454480" cy="408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960" y="2039760"/>
                    <a:ext cx="24544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317840" y="2470320"/>
          <a:ext cx="1430640" cy="1069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17840" y="2470320"/>
                    <a:ext cx="14306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 flipV="1">
            <a:off x="7669080" y="2403000"/>
            <a:ext cx="0" cy="46044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819920" y="2405160"/>
          <a:ext cx="33192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19920" y="2405160"/>
                    <a:ext cx="331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7551720" y="3762360"/>
            <a:ext cx="2170080" cy="3529080"/>
            <a:chOff x="7551720" y="3762360"/>
            <a:chExt cx="2170080" cy="3529080"/>
          </a:xfrm>
        </p:grpSpPr>
        <p:pic>
          <p:nvPicPr>
            <p:cNvPr id="185" name="" descr=""/>
            <p:cNvPicPr/>
            <p:nvPr/>
          </p:nvPicPr>
          <p:blipFill>
            <a:blip r:embed="rId23"/>
            <a:stretch/>
          </p:blipFill>
          <p:spPr>
            <a:xfrm>
              <a:off x="7551720" y="3762360"/>
              <a:ext cx="217008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flipV="1">
              <a:off x="7775640" y="6271920"/>
              <a:ext cx="0" cy="312840"/>
            </a:xfrm>
            <a:prstGeom prst="line">
              <a:avLst/>
            </a:prstGeom>
            <a:ln w="316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7940520" y="6246720"/>
            <a:ext cx="331920" cy="4334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7940520" y="6246720"/>
                      <a:ext cx="33192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" name=""/>
          <p:cNvGraphicFramePr/>
          <p:nvPr/>
        </p:nvGraphicFramePr>
        <p:xfrm>
          <a:off x="352440" y="3465360"/>
          <a:ext cx="2147760" cy="7668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52440" y="3465360"/>
                    <a:ext cx="2147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20640" y="4506840"/>
          <a:ext cx="1201680" cy="4334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20640" y="4506840"/>
                    <a:ext cx="1201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822400" y="4154400"/>
          <a:ext cx="733680" cy="5763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822400" y="4154400"/>
                    <a:ext cx="733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665520" y="4024440"/>
          <a:ext cx="2403360" cy="7398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665520" y="4024440"/>
                    <a:ext cx="24033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00040" y="5443560"/>
          <a:ext cx="996840" cy="3826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00040" y="5443560"/>
                    <a:ext cx="9968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849320" y="5402160"/>
          <a:ext cx="1254240" cy="4334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1849320" y="5402160"/>
                    <a:ext cx="12542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31920" y="6067440"/>
            <a:ext cx="557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Άρα ο αγωγός ΚΛ θα κινηθεί προς τα κάτ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330960" y="6048360"/>
          <a:ext cx="306360" cy="3571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330960" y="6048360"/>
                    <a:ext cx="306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8004240" y="647640"/>
          <a:ext cx="306360" cy="399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8004240" y="647640"/>
                    <a:ext cx="3063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440" y="100080"/>
            <a:ext cx="939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αγώγιμο άκαμπτο σύρμα μήκου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0,6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που παρουσιάζει αντίστασ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9Ω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σχηματίζου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ισόπλευρ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ρίγων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ΒΓ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Στα άκ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υνδέουμε με αγωγού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μελητέα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ντίστασης, πηγή με ΗΕΔ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=6V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r=1Ω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ποθετούμε το τρίγωνο εντός ομογενούς μαγνητικού πεδίου έντα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=0,3Τ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ε τρόπο που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πίπεδ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 να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άθετ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ις δυναμικές γραμμές του. Να υπολογίσετε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ις εντάσεις των ρευμάτων που διαρρέουν κάθε πλευρά του τριγών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4713" t="0" r="10996" b="57477"/>
          <a:stretch/>
        </p:blipFill>
        <p:spPr>
          <a:xfrm>
            <a:off x="5692680" y="2820960"/>
            <a:ext cx="3865680" cy="426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531120" y="4311720"/>
          <a:ext cx="190440" cy="2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31120" y="431172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593200" y="4305240"/>
          <a:ext cx="19044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93200" y="430524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580160" y="5559480"/>
          <a:ext cx="19080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0160" y="5559480"/>
                    <a:ext cx="1908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60280" y="2397240"/>
          <a:ext cx="288936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0280" y="2397240"/>
                    <a:ext cx="28893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06280" y="3457440"/>
          <a:ext cx="2121120" cy="83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280" y="3457440"/>
                    <a:ext cx="21211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25280" y="4481640"/>
          <a:ext cx="265932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280" y="4481640"/>
                    <a:ext cx="26593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148600" y="5535720"/>
          <a:ext cx="23040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48600" y="5535720"/>
                    <a:ext cx="230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8210520" y="3454560"/>
          <a:ext cx="249120" cy="32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10520" y="3454560"/>
                    <a:ext cx="2491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921360" y="3411360"/>
          <a:ext cx="24948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21360" y="3411360"/>
                    <a:ext cx="2494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26880" y="2914560"/>
          <a:ext cx="2502000" cy="45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6880" y="2914560"/>
                    <a:ext cx="25020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416320" y="3652920"/>
          <a:ext cx="1790640" cy="45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16320" y="3652920"/>
                    <a:ext cx="1790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301920" y="4340160"/>
          <a:ext cx="1763640" cy="816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01920" y="4340160"/>
                    <a:ext cx="17636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6449760" y="6676920"/>
            <a:ext cx="6238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110280" y="4870440"/>
            <a:ext cx="282600" cy="488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543360" y="5748480"/>
            <a:ext cx="6238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707160" y="6222960"/>
          <a:ext cx="190440" cy="247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707160" y="622296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716880" y="5370480"/>
          <a:ext cx="228600" cy="324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716880" y="5370480"/>
                    <a:ext cx="228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931000" y="4809960"/>
          <a:ext cx="228600" cy="324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31000" y="4809960"/>
                    <a:ext cx="228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79280" y="5097600"/>
          <a:ext cx="2300400" cy="4330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79280" y="5097600"/>
                    <a:ext cx="23004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787480" y="5818320"/>
          <a:ext cx="1968840" cy="866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787480" y="5818320"/>
                    <a:ext cx="19688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18960" y="5788080"/>
          <a:ext cx="1917720" cy="841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18960" y="5788080"/>
                    <a:ext cx="19177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916840" y="4876920"/>
            <a:ext cx="279720" cy="482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099720" y="4809960"/>
          <a:ext cx="228600" cy="3240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9099720" y="4809960"/>
                    <a:ext cx="228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0440" y="100080"/>
            <a:ext cx="939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 δύναμη Laplace που δέχεται κάθε πλευρά τ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ριγώνου, καθώς και τη συνισταμένη αυτώ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0" t="0" r="51848" b="0"/>
          <a:stretch/>
        </p:blipFill>
        <p:spPr>
          <a:xfrm>
            <a:off x="5235480" y="566640"/>
            <a:ext cx="4486320" cy="48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6588000" y="1687680"/>
          <a:ext cx="190800" cy="24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687680"/>
                    <a:ext cx="190800" cy="24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848800" y="2978280"/>
          <a:ext cx="19044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48800" y="297828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8331120" y="4281480"/>
          <a:ext cx="19044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31120" y="428148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57280" y="1317600"/>
          <a:ext cx="235116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280" y="1317600"/>
                    <a:ext cx="2351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88880" y="2776680"/>
          <a:ext cx="2401920" cy="43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8880" y="2776680"/>
                    <a:ext cx="24019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96720" y="2062080"/>
          <a:ext cx="2401920" cy="43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720" y="2062080"/>
                    <a:ext cx="2401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rcRect l="62217" t="18519" r="3333" b="28490"/>
          <a:stretch/>
        </p:blipFill>
        <p:spPr>
          <a:xfrm>
            <a:off x="4827600" y="1298520"/>
            <a:ext cx="4719600" cy="3772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rcRect l="0" t="0" r="51848" b="0"/>
          <a:stretch/>
        </p:blipFill>
        <p:spPr>
          <a:xfrm>
            <a:off x="0" y="851040"/>
            <a:ext cx="4486320" cy="48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3083040" y="4621320"/>
          <a:ext cx="190440" cy="2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3040" y="462132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24160" y="1857240"/>
          <a:ext cx="190440" cy="2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4160" y="185724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798720" y="3332160"/>
          <a:ext cx="190800" cy="24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98720" y="3332160"/>
                    <a:ext cx="1908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5600" y="169920"/>
            <a:ext cx="929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1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ένα ομογενές μαγνητικό πεδίο οι δυναμικές γραμμές είναι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νοικτές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μόκεντροι κύκλοι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υθείες, με φορά από το νότιο προς το βόρειο μαγνητικό πόλο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υθείες παράλληλες, ομόρροπες και ισαπέχουσες μεταξύ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14800" y="2859120"/>
          <a:ext cx="37152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859120"/>
                    <a:ext cx="371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rcRect l="62217" t="18519" r="3333" b="28490"/>
          <a:stretch/>
        </p:blipFill>
        <p:spPr>
          <a:xfrm>
            <a:off x="5249880" y="0"/>
            <a:ext cx="4471920" cy="35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3440160" y="85680"/>
          <a:ext cx="15066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0160" y="85680"/>
                    <a:ext cx="15066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23840" y="127080"/>
          <a:ext cx="148284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840" y="127080"/>
                    <a:ext cx="14828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09640" y="106200"/>
          <a:ext cx="150660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9640" y="106200"/>
                    <a:ext cx="15066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6240" y="650880"/>
          <a:ext cx="3701880" cy="76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6240" y="650880"/>
                    <a:ext cx="37018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89080" y="1549440"/>
          <a:ext cx="288432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080" y="1549440"/>
                    <a:ext cx="2884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53880" y="2044800"/>
          <a:ext cx="3729240" cy="76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3880" y="2044800"/>
                    <a:ext cx="37292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569880" y="3664080"/>
          <a:ext cx="2400480" cy="43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9880" y="3664080"/>
                    <a:ext cx="240048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55760" y="2957400"/>
          <a:ext cx="2884320" cy="484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5760" y="2957400"/>
                    <a:ext cx="2884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87360" y="4437000"/>
          <a:ext cx="3549600" cy="459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7360" y="4437000"/>
                    <a:ext cx="3549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058760" y="5281560"/>
          <a:ext cx="1608120" cy="35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58760" y="5281560"/>
                    <a:ext cx="1608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20760" y="596916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 διεύθυνση κατακόρυφη και φορά προς τα πάν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69920" y="141120"/>
            <a:ext cx="934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τρέφουμε το μαγνητικό πεδίο κατά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90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έτσι ώστε η πλευρά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πίπεδ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 τριγώνου να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παράλληλ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τις δυναμικέ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γραμμές του μαγνητικού πεδίου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υπολογίσετε τη συνισταμένη δύναμη Laplace που δέχεται 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ρίγων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ΒΓ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 μαγνητικό πεδί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rcRect l="7854" t="52448" r="6283" b="3952"/>
          <a:stretch/>
        </p:blipFill>
        <p:spPr>
          <a:xfrm>
            <a:off x="157320" y="1917720"/>
            <a:ext cx="3936960" cy="436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605480" y="1863720"/>
            <a:ext cx="4940280" cy="45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781520" y="0"/>
            <a:ext cx="4940280" cy="452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1560600" y="2311560"/>
          <a:ext cx="9698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0600" y="2311560"/>
                    <a:ext cx="9698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31840" y="743040"/>
          <a:ext cx="365436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840" y="743040"/>
                    <a:ext cx="36543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68200" y="1471680"/>
          <a:ext cx="365436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8200" y="1471680"/>
                    <a:ext cx="36543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492200" y="250920"/>
          <a:ext cx="102240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92200" y="250920"/>
                    <a:ext cx="1022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7637400" y="3516480"/>
          <a:ext cx="190440" cy="24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7400" y="3516480"/>
                    <a:ext cx="190440" cy="24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616720" y="1176480"/>
          <a:ext cx="190440" cy="24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16720" y="117648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8699400" y="1033560"/>
          <a:ext cx="190440" cy="2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99400" y="103356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5000" y="198360"/>
            <a:ext cx="925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υπολογίσετε το μέτρο της συνισταμέν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ροπή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που δέχεται το τρίγων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ΒΓ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 μαγνητικό πεδί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781520" y="1028880"/>
            <a:ext cx="4940280" cy="452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858960" y="1490760"/>
          <a:ext cx="186372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8960" y="1490760"/>
                    <a:ext cx="18637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138320" y="3957480"/>
          <a:ext cx="14032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38320" y="3957480"/>
                    <a:ext cx="14032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340000" y="2612880"/>
          <a:ext cx="1454040" cy="71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612880"/>
                    <a:ext cx="14540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709560" y="4906800"/>
          <a:ext cx="2629080" cy="45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560" y="4906800"/>
                    <a:ext cx="2629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361800" y="2341440"/>
          <a:ext cx="1836720" cy="1352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800" y="2341440"/>
                    <a:ext cx="1836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7308720" y="1494000"/>
            <a:ext cx="0" cy="138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384960" y="1512720"/>
          <a:ext cx="20952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84960" y="1512720"/>
                    <a:ext cx="209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 flipH="1">
            <a:off x="6386040" y="1382760"/>
            <a:ext cx="701640" cy="1214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723080" y="4537080"/>
          <a:ext cx="190440" cy="2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23080" y="453708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6200" y="149400"/>
            <a:ext cx="93855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νας ευθύγραμμος αγωγός μεγάλου μήκους που διαρρέεται από ρεύμα έντασης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I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20A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βρίσκεται σε απόσταση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d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0,1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να τετραγωνικό πλαίσι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Μ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ομοεπίπεδ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τον ευθύγραμμο αγωγό. Ο αγωγός και το πλαίσιο βρίσκονται πάνω σ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λεί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οριζόντι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πίπεδο. Το πλαίσιο έχει πλευρά μήκους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0,1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άζα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m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0,1kg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διαρρέεται με ρεύμα έντασης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I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10A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Στην περιοχή που ορίζουν οι ευθείε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Ay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A΄y΄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υπάρχε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ατακόρυφ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μογενές μαγνητικό πεδίο έντα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Το πλαίσι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ισορροπεί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λόγω των δυνάμεων που δέχεται από τον ευθύγραμμο αγωγό και το μαγνητικό πεδ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ενώ ο ευθύγραμμο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ρατιέται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ο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εμά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73480"/>
            <a:ext cx="323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1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υπολογίστε τις δυνάμεις που δέχονται οι πλευρέ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ν ευθύγραμμο αγωγ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0" t="1367" r="2778" b="6833"/>
          <a:stretch/>
        </p:blipFill>
        <p:spPr>
          <a:xfrm>
            <a:off x="3365640" y="3068640"/>
            <a:ext cx="635616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8234280" y="5332320"/>
          <a:ext cx="28440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34280" y="5332320"/>
                    <a:ext cx="284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rcRect l="0" t="1367" r="2778" b="6833"/>
          <a:stretch/>
        </p:blipFill>
        <p:spPr>
          <a:xfrm>
            <a:off x="3876840" y="0"/>
            <a:ext cx="5844960" cy="3740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>
            <a:off x="5200560" y="1785960"/>
            <a:ext cx="10987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232480" y="1765440"/>
            <a:ext cx="539640" cy="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675400" y="1333440"/>
          <a:ext cx="2808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5400" y="1333440"/>
                    <a:ext cx="280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8340840" y="1282680"/>
          <a:ext cx="28080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40840" y="1282680"/>
                    <a:ext cx="280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276120" y="1047600"/>
            <a:ext cx="323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1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υπολογίσετε τις δυνάμεις που δέχονται οι πλευρέ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ν ευθύγραμμο αγωγ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84320" y="4865760"/>
          <a:ext cx="393048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320" y="4865760"/>
                    <a:ext cx="39304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28520" y="3998880"/>
          <a:ext cx="3930840" cy="73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520" y="3998880"/>
                    <a:ext cx="39308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8369280" y="2079720"/>
          <a:ext cx="284040" cy="36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69280" y="2079720"/>
                    <a:ext cx="2840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9400" y="146160"/>
            <a:ext cx="932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αποδείξετε ότι οι δυνάμεις που δέχονται οι πλευρέ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ΛΜ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ν ευθύγραμμο αγωγό,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ντίθετε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έχουν τον ίδιο φορέ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487760" y="836640"/>
            <a:ext cx="5127840" cy="44719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7840" y="957240"/>
            <a:ext cx="41385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ν θεωρήσουμε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δύο στοιχειώδη τμήματα μήκους </a:t>
            </a:r>
            <a:r>
              <a:rPr b="1" lang="en-US" sz="1900" spc="-1" strike="noStrike">
                <a:solidFill>
                  <a:srgbClr val="0000cc"/>
                </a:solidFill>
                <a:latin typeface="Comic Sans MS"/>
              </a:rPr>
              <a:t>dL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που απέχουν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ίσες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αποστάσεις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από τον ευθύγραμμο αγωγό, δέχονται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αντίθετες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δυνάμεις του ίδιου φορέα που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έχουν μέτρο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00160" y="2803680"/>
          <a:ext cx="398124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60" y="2803680"/>
                    <a:ext cx="39812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7927920" y="3548160"/>
          <a:ext cx="40788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7920" y="3548160"/>
                    <a:ext cx="407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7948440" y="1982880"/>
          <a:ext cx="40824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48440" y="1982880"/>
                    <a:ext cx="4082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155520" y="3664080"/>
            <a:ext cx="40975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Οι δυνάμεις αυτές είναι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κάθετες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στους αγωγούς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ΛΜ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και ΝΚ. </a:t>
            </a:r>
            <a:br>
              <a:rPr sz="1900"/>
            </a:b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Η δύναμη που ασκείται στο στοιχειώδες τμήμα που ανήκει στην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ΛΜ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έχει φορά προς τα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πάνω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και αυτή που ασκείται στο στοιχειώδες τμήμα που ανήκει στην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ΚΝ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 προς τα </a:t>
            </a:r>
            <a:r>
              <a:rPr b="1" lang="el-GR" sz="1900" spc="-1" strike="noStrike">
                <a:solidFill>
                  <a:srgbClr val="0000cc"/>
                </a:solidFill>
                <a:latin typeface="Comic Sans MS"/>
              </a:rPr>
              <a:t>κάτω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194520"/>
            <a:ext cx="91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φού αυτό ισχύει για δύο στοιχειώδη τμήματα, θα ισχύει και για κάθε άλλο ζεύγος στοιχειωδών τμημάτων. Άρα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7927920" y="2693880"/>
          <a:ext cx="78732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27920" y="2693880"/>
                    <a:ext cx="7873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9920" y="128520"/>
            <a:ext cx="90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υπολογίστε τη δύναμη που δέχεται ο ευθύγραμμος αγωγός από το πλαίσι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851040" y="1116000"/>
          <a:ext cx="1785960" cy="45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16000"/>
                    <a:ext cx="17859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71560" y="1652760"/>
          <a:ext cx="178740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1560" y="1652760"/>
                    <a:ext cx="1787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23720" y="2535120"/>
          <a:ext cx="300996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3720" y="2535120"/>
                    <a:ext cx="3009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9" name="" descr=""/>
          <p:cNvPicPr/>
          <p:nvPr/>
        </p:nvPicPr>
        <p:blipFill>
          <a:blip r:embed="rId8"/>
          <a:srcRect l="0" t="1367" r="2778" b="6833"/>
          <a:stretch/>
        </p:blipFill>
        <p:spPr>
          <a:xfrm>
            <a:off x="3876840" y="695160"/>
            <a:ext cx="5844960" cy="3740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H="1">
            <a:off x="5200560" y="2481120"/>
            <a:ext cx="10987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232480" y="2460600"/>
            <a:ext cx="539640" cy="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675400" y="2028960"/>
          <a:ext cx="28080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5400" y="2028960"/>
                    <a:ext cx="280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8340840" y="1978200"/>
          <a:ext cx="28080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40840" y="1978200"/>
                    <a:ext cx="280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6426360" y="2460600"/>
            <a:ext cx="4824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12760" y="3424320"/>
            <a:ext cx="340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ευθύγραμμος αγωγός, λόγω δράσης- αντίδρασης, θα δεχθεί από το πλαίσιο μια αντίθετη δύναμη προς τα δεξιά μέτρο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347720" y="2448000"/>
            <a:ext cx="48276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464000" y="1900080"/>
          <a:ext cx="434880" cy="43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4000" y="1900080"/>
                    <a:ext cx="434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009800" y="5297400"/>
          <a:ext cx="1917720" cy="45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09800" y="5297400"/>
                    <a:ext cx="191772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 flipH="1">
            <a:off x="6426360" y="2460600"/>
            <a:ext cx="4824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497640" y="1936800"/>
          <a:ext cx="409680" cy="460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97640" y="1936800"/>
                    <a:ext cx="409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851040" y="1116000"/>
          <a:ext cx="1785960" cy="45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51040" y="1116000"/>
                    <a:ext cx="17859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71560" y="1652760"/>
          <a:ext cx="1787400" cy="458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71560" y="1652760"/>
                    <a:ext cx="1787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3520" y="106200"/>
            <a:ext cx="9121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προσδιορίσετε την κατεύθυνση των δυναμικών γραμμών του μαγνητικού πεδί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καθώς και το μέτρο της έντασής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rcRect l="0" t="1367" r="2778" b="6833"/>
          <a:stretch/>
        </p:blipFill>
        <p:spPr>
          <a:xfrm>
            <a:off x="3776760" y="984240"/>
            <a:ext cx="5844960" cy="37400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flipH="1">
            <a:off x="5100480" y="2770200"/>
            <a:ext cx="10987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132400" y="2749680"/>
            <a:ext cx="539640" cy="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575320" y="2317680"/>
          <a:ext cx="2808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5320" y="2317680"/>
                    <a:ext cx="280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8240760" y="2266920"/>
          <a:ext cx="28080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0760" y="2266920"/>
                    <a:ext cx="280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 flipH="1">
            <a:off x="6399360" y="2751120"/>
            <a:ext cx="4824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200" y="950760"/>
            <a:ext cx="3529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Για να παραμένει σ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ισορροπί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πλαίσιο πρέπει η δύναμη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cc0000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ασκείται από το μαγνητικό πεδ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πλαίσιο, στην πλευρά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να έχει φορά προς τ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εξιά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μέτρ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998880"/>
            <a:ext cx="36702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 τον κανόνα των τριών δαχτύλων του δεξιού χεριού, βρίσκεται ότι οι δυναμικές γραμμές τ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χουν φορά από τoν αναγνώστη προς τη σελίδ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169120" y="2963880"/>
            <a:ext cx="5400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272440" y="3038400"/>
          <a:ext cx="306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72440" y="3038400"/>
                    <a:ext cx="306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7237440" y="2658960"/>
            <a:ext cx="290160" cy="290160"/>
            <a:chOff x="7237440" y="2658960"/>
            <a:chExt cx="290160" cy="290160"/>
          </a:xfrm>
        </p:grpSpPr>
        <p:sp>
          <p:nvSpPr>
            <p:cNvPr id="405" name=""/>
            <p:cNvSpPr/>
            <p:nvPr/>
          </p:nvSpPr>
          <p:spPr>
            <a:xfrm>
              <a:off x="7237440" y="2658960"/>
              <a:ext cx="290160" cy="29016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6" name=""/>
            <p:cNvCxnSpPr>
              <a:stCxn id="405" idx="7"/>
              <a:endCxn id="405" idx="3"/>
            </p:cNvCxnSpPr>
            <p:nvPr/>
          </p:nvCxnSpPr>
          <p:spPr>
            <a:xfrm flipH="1">
              <a:off x="7278840" y="2685960"/>
              <a:ext cx="206280" cy="236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>
              <a:stCxn id="405" idx="5"/>
              <a:endCxn id="405" idx="1"/>
            </p:cNvCxnSpPr>
            <p:nvPr/>
          </p:nvCxnSpPr>
          <p:spPr>
            <a:xfrm flipH="1" flipV="1">
              <a:off x="7278840" y="2685600"/>
              <a:ext cx="206280" cy="236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408" name=""/>
          <p:cNvGraphicFramePr/>
          <p:nvPr/>
        </p:nvGraphicFramePr>
        <p:xfrm>
          <a:off x="501480" y="3335400"/>
          <a:ext cx="250200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480" y="3335400"/>
                    <a:ext cx="2502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469200" y="2205000"/>
          <a:ext cx="40932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9200" y="2205000"/>
                    <a:ext cx="4093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 flipH="1">
            <a:off x="8169120" y="2963880"/>
            <a:ext cx="5400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8272440" y="3038400"/>
          <a:ext cx="30636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72440" y="3038400"/>
                    <a:ext cx="306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55520" y="120600"/>
            <a:ext cx="939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ιπλασιάζουμε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ν ένταση του ρεύματος που διαρρέει το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υθύγραμμ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γωγό.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5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προσδιορίσετε προς ποια κατεύθυνση θα κινηθεί το πλαίσιο και το μέτρο τη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ρχικής του επιτάχυν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960720" y="1130400"/>
            <a:ext cx="5761080" cy="3762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62000" y="1268280"/>
            <a:ext cx="360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ιπλασιασμό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έντασης του ρεύματο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ου διαρρέει τον ευθύγραμμο αγωγό προκαλεί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ιπλασιασμ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 μέτρου των δυνάμεων π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σκεί ο ευθύγραμμος αγωγός στις πλευρές τ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λαισί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36480" y="3562200"/>
          <a:ext cx="1760760" cy="4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80" y="3562200"/>
                    <a:ext cx="17607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36480" y="4064040"/>
          <a:ext cx="181296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4064040"/>
                    <a:ext cx="18129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98320" y="4576680"/>
          <a:ext cx="178776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320" y="4576680"/>
                    <a:ext cx="17877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8360" y="5116680"/>
          <a:ext cx="364968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5116680"/>
                    <a:ext cx="3649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 flipH="1">
            <a:off x="6659280" y="2898720"/>
            <a:ext cx="6174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831000" y="2986200"/>
          <a:ext cx="51120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31000" y="2986200"/>
                    <a:ext cx="5112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22360" y="5875200"/>
          <a:ext cx="2985840" cy="76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2360" y="5875200"/>
                    <a:ext cx="29858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4067280" y="6046920"/>
            <a:ext cx="354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 φορά προς τα αριστερ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76920" y="3224160"/>
            <a:ext cx="43344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938920" y="3198960"/>
          <a:ext cx="333360" cy="434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38920" y="3198960"/>
                    <a:ext cx="333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7840" y="135000"/>
            <a:ext cx="93852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2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 ευθύγραμμος οριζόντιος ρευματοφόρος αγωγ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δέχεται δύναμ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Laplace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έχει κατεύθυνση όπως η δύναμη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68320" y="2405160"/>
            <a:ext cx="5505480" cy="42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418520" y="4289400"/>
          <a:ext cx="37152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8520" y="4289400"/>
                    <a:ext cx="371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85680" y="100080"/>
            <a:ext cx="9209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υπολογίσετε τη δύναμη που δέχεται το πλαίσιο, αμέσως μετά την έξοδό του από 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αγνητικο πεδ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3994200" y="836640"/>
            <a:ext cx="5727600" cy="3508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4760" y="1708200"/>
            <a:ext cx="3708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η στιγμή που το πλαίσιο εξέρχεται από το μαγνητικό πεδ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παύει να δέχεται δύναμη απ’ αυτό και δέχεται δυνάμεις μόνο από τον ευθύγραμμο αγωγ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024520" y="4597560"/>
          <a:ext cx="413532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4597560"/>
                    <a:ext cx="4135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06360" y="4576680"/>
          <a:ext cx="405756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360" y="4576680"/>
                    <a:ext cx="40575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2843280" y="5595840"/>
          <a:ext cx="3317760" cy="7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5595840"/>
                    <a:ext cx="331776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 flipH="1">
            <a:off x="5951520" y="2651040"/>
            <a:ext cx="41904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002280" y="2789280"/>
          <a:ext cx="56196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2280" y="2789280"/>
                    <a:ext cx="5619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7080" y="212760"/>
            <a:ext cx="939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3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Oersted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δειξε πειραματικά ότι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ύρω από ένα ακίνητο φορτίο δημιουργείται μαγνητικό πεδίο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ύρω από ένα ακίνητο φορτίο δημιουργείται ηλεκτρικό πεδίο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ύρω από έναν ευθύγραμμο αγωγό δημιουργείται μαγνητικό πεδίο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ύρω από έναν ευθύγραμμο ρευματοφόρο αγωγό δημιουργείται μαγνητικό πεδί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1960" y="2714760"/>
          <a:ext cx="37152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2714760"/>
                    <a:ext cx="371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9400" y="270000"/>
            <a:ext cx="92358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4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υθύγραμμος οριζόντιος αγωγός διαρρέεται από συνεχές ρεύμα και βρίσκεται μέσα σε ομογενές μαγνητικό πεδίο με οριζόντιες δυναμικές γραμμές. Ο αγωγός δέχεται δύναμη από το μαγνητικό πεδίο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L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που έχει μέτρο το ήμισυ της μέγιστης δυνατής τιμής του. Προκειμένου να ασκηθεί στον αγωγό δύναμη με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έγιστ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υνατό μέτρο, πρέπει αυτός να στραφεί γύρω από κατακόρυφο άξονα κατά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60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90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45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30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75120" y="3719520"/>
          <a:ext cx="306360" cy="2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75120" y="3719520"/>
                    <a:ext cx="3063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920" y="177840"/>
            <a:ext cx="9315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5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να σωληνοειδές όταν διαρρέεται από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ταθερ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ρεύμα, το μέτρο της έντασης του μαγνητικού πεδίου στο εσωτερικό του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Ενώνουμε το σωληνοειδές με ένα άλλ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όμοι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, ώστε να δημιουργηθεί ένα νέ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ιπλάσιου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ήκους. Διαβιβάζουμε στο σύστημα ρεύμ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ίδια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ντασης. Το μέτρο του μαγνητικού πεδίου στο εσωτερικό του νέου σωληνοειδούς θα είναι: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Β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2Β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4Β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Β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127400" y="2825640"/>
          <a:ext cx="37152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7400" y="2825640"/>
                    <a:ext cx="3715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247680"/>
            <a:ext cx="9172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6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ένταση του μαγνητικού πεδί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ρίζεται με βάση τη δύναμη Laplace που αναπτύσσετ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ευθύγραμμο ρευματοφόρο αγωγό, που τοποθετείται παράλληλα στις μαγνητικές δυναμικές γραμμέ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ευθύγραμμο ρευματοφόρο αγωγό, που τοποθετείται κάθετα στις μαγνητικές δυναμικές γραμμέ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αξύ δύο παραλλήλων ρευματοφόρων αγωγών που διαρρέονται από ομόρροπα ρεύμα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αξύ δύο παραλλήλων ρευματοφόρων αγωγών που διαρρέονται από αντίρροπα ρεύμα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784760" y="4307040"/>
          <a:ext cx="353880" cy="41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4760" y="4307040"/>
                    <a:ext cx="353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2760" y="141120"/>
            <a:ext cx="92296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Η δύναμη Laplace που ασκείται σε ευθύγραμμο ρευματοφόρο αγωγό μήκους L, που βρίσκεται εντός ομογενούς μαγνητικού πεδίου έντασης B, είναι κάθετη και στην ένταση και στον αγωγό.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Το μέτρο της έντασης του μαγνητικού πεδίου στο κέντρο ενός κυκλικού ρευματοφόρου αγωγού είναι ανάλογο της έντασης του ρεύματος που τον διαρρέει. 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Η ένταση του μαγνητικού πεδίου στο εσωτερικό ενός ρευματοφόρου σωληνοειδούς μεγάλου μήκους είναι ανάλογη του μήκους του. 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Δύο παράλληλοι ρευματοφόροι αγωγοί απείρου μήκους έλκονται, αν οι φορές των ρευμάτων είναι αντίρροπες. 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Ε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Το μέτρο της έντασης του μαγνητικού πεδίου σε κάποιο σημείο γύρω από ευθύγραμμο ρευματοφόρο αγωγό μειώνεται καθώς η απόσταση του σημείου από τον αγωγό μεγαλώνει. 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Στ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. Οι μαγνητικές γραμμές που δημιουργούνται γύρω από ρευματοφόρο αγωγό είναι ανοικτές. 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Ζ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Οι σπείρες ενός εύκαμπτου ρευματοφόρου σωληνοειδούς έλκονται πάντα μεταξύ τους.  </a:t>
            </a:r>
            <a:br>
              <a:rPr sz="1800"/>
            </a:br>
            <a:r>
              <a:rPr b="1" lang="el-GR" sz="1800" spc="-1" strike="noStrike">
                <a:solidFill>
                  <a:srgbClr val="cc0000"/>
                </a:solidFill>
                <a:latin typeface="Comic Sans MS"/>
              </a:rPr>
              <a:t>Η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Κάθε ρευματοφόρος αγωγός δημιουργεί γύρω του μαγνητικό πεδίο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6560" y="5861160"/>
          <a:ext cx="97812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5861160"/>
                    <a:ext cx="978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922400" y="5897520"/>
          <a:ext cx="94608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22400" y="5897520"/>
                    <a:ext cx="946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376440" y="5872320"/>
          <a:ext cx="946440" cy="47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76440" y="5872320"/>
                    <a:ext cx="9464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883040" y="5835600"/>
          <a:ext cx="1041480" cy="44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83040" y="5835600"/>
                    <a:ext cx="1041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0840" y="6581880"/>
          <a:ext cx="946080" cy="41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840" y="6581880"/>
                    <a:ext cx="946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78120" y="6567480"/>
          <a:ext cx="116676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78120" y="6567480"/>
                    <a:ext cx="1166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81280" y="6575400"/>
          <a:ext cx="978120" cy="411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81280" y="6575400"/>
                    <a:ext cx="978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26040" y="6603840"/>
          <a:ext cx="977760" cy="411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6040" y="6603840"/>
                    <a:ext cx="9777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7600" y="142920"/>
            <a:ext cx="9285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υκλικό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γωγό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Α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υνδέεται με ιδανική πηγή σταθερής τάσης, οπότε δημιουργεί μαγνητικό πεδίο του οποίου η ένταση στο κέντρο του έχει μέτρ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Χρησιμοποιούμε το σύρμα του κυκλικού αγωγού και σχηματίζουμε έν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υκλικ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πλαίσι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Γ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ύ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πείρες, το οποίο συνδέουμε με την ίδια πηγή. Το μέτρο της έντασης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B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υ μαγνητικού πεδίου στο κέντρο τ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υκλικού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πλαισίου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Γ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 ίση με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Β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2Β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4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96880" y="2714760"/>
            <a:ext cx="601056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5391000" y="5479920"/>
          <a:ext cx="201636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5479920"/>
                    <a:ext cx="20163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56:58Z</dcterms:created>
  <dc:creator>Nikos</dc:creator>
  <dc:description/>
  <dc:language>en-US</dc:language>
  <cp:lastModifiedBy>Nikos</cp:lastModifiedBy>
  <dcterms:modified xsi:type="dcterms:W3CDTF">2020-04-11T20:37:55Z</dcterms:modified>
  <cp:revision>2080</cp:revision>
  <dc:subject/>
  <dc:title>Διαφάνεια 1</dc:title>
</cp:coreProperties>
</file>