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9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37.png" ContentType="image/png"/>
  <Override PartName="/ppt/media/image103.wmf" ContentType="image/x-wmf"/>
  <Override PartName="/ppt/media/image3.wmf" ContentType="image/x-wmf"/>
  <Override PartName="/ppt/media/image80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12.png" ContentType="image/png"/>
  <Override PartName="/ppt/media/image131.wmf" ContentType="image/x-wmf"/>
  <Override PartName="/ppt/media/image52.wmf" ContentType="image/x-wmf"/>
  <Override PartName="/ppt/media/image7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8.wmf" ContentType="image/x-wmf"/>
  <Override PartName="/ppt/media/image134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143.wmf" ContentType="image/x-wmf"/>
  <Override PartName="/ppt/media/image51.wmf" ContentType="image/x-wmf"/>
  <Override PartName="/ppt/media/image135.wmf" ContentType="image/x-wmf"/>
  <Override PartName="/ppt/media/image144.wmf" ContentType="image/x-wmf"/>
  <Override PartName="/ppt/media/image47.wmf" ContentType="image/x-wmf"/>
  <Override PartName="/ppt/media/image133.wmf" ContentType="image/x-wmf"/>
  <Override PartName="/ppt/media/image145.wmf" ContentType="image/x-wmf"/>
  <Override PartName="/ppt/media/image5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723438" cy="72898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44A-F3C8-4CF2-B118-94DABECF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224-E5E1-4024-AFF7-627AD6DB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B24-F403-4F3D-B324-67C8B3D1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70172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215240"/>
            <a:ext cx="28173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EEF-6515-4CE4-9290-9926E72D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D89-8AC0-40B9-BFE6-6182B10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2F6-1E31-47F7-9B9E-E3EC3F96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68-7A66-453D-92DD-448B74CE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28D-6378-449C-B5FB-344F2B2E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91960"/>
            <a:ext cx="8750520" cy="56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A67-9600-4A8B-AB1C-23A1F37B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37A-1DFA-4AE4-8B09-4EFA6D6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21524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77D-DE72-4174-850F-95B21A1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701720"/>
            <a:ext cx="426996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215240"/>
            <a:ext cx="8750520" cy="2295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B7B-94E2-410E-9368-A3F7064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91960"/>
            <a:ext cx="8750520" cy="1214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701720"/>
            <a:ext cx="8750520" cy="481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4280" indent="-2426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87720" indent="-2430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640200"/>
            <a:ext cx="307980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640200"/>
            <a:ext cx="2268720" cy="506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l-GR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DB72EEA-E568-40F4-B5B6-52CFA82C4BB8}" type="slidenum">
              <a:rPr b="0" lang="el-G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image" Target="../media/image3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6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7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49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50.wmf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wmf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5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0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8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4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0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0.wmf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7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5.wmf"/><Relationship Id="rId2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4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4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4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4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4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45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5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6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7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8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29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0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1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2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6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8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33.wmf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712960"/>
            <a:ext cx="63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ιαγώνισμα στις Κρούσει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θέματα από το Ψηφιακό Σχολε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4143240"/>
            <a:ext cx="88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α θέματα επιμελήθηκαν οι Ιστάπολος Βασίλειος και Ποντικός Ηλία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680" y="157320"/>
            <a:ext cx="9377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ύο σώματ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, 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μάζε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κινούνται πάνω σε λείο οριζόντιο επίπεδο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άθετε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αξύ τους διευθύνσεις και με ταχύτητες μέτρου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αι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3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ντίστοιχα. Κάποια χρονική στιγμή, τα σώματα συγκρούοντ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πλαστικά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Το ποσό θερμότητας που ελευθερώνεται κατά την κρούση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84600" y="1486080"/>
          <a:ext cx="1139760" cy="7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4600" y="1486080"/>
                    <a:ext cx="1139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30520" y="1511280"/>
          <a:ext cx="1168200" cy="71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0520" y="1511280"/>
                    <a:ext cx="11682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14800" y="1511280"/>
          <a:ext cx="1170000" cy="71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14800" y="1511280"/>
                    <a:ext cx="117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6159600" y="1589040"/>
            <a:ext cx="3562200" cy="292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109440" y="2568600"/>
          <a:ext cx="192240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9440" y="2568600"/>
                    <a:ext cx="1922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01960" y="2496960"/>
          <a:ext cx="235260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1960" y="2496960"/>
                    <a:ext cx="23526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486320" y="2589120"/>
          <a:ext cx="11635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86320" y="2589120"/>
                    <a:ext cx="1163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55600" y="3267000"/>
          <a:ext cx="133992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" y="3267000"/>
                    <a:ext cx="1339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8840" y="3862440"/>
          <a:ext cx="1214280" cy="45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8840" y="3862440"/>
                    <a:ext cx="12142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7626240" y="2401920"/>
            <a:ext cx="419040" cy="333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17840" y="3854520"/>
          <a:ext cx="2151000" cy="43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17840" y="3854520"/>
                    <a:ext cx="21510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035920" y="2371680"/>
          <a:ext cx="277920" cy="32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35920" y="2371680"/>
                    <a:ext cx="2779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992320" y="4745160"/>
          <a:ext cx="4170600" cy="811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92320" y="4745160"/>
                    <a:ext cx="41706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89000" y="4956120"/>
          <a:ext cx="260172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000" y="4956120"/>
                    <a:ext cx="2601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318440" y="4816440"/>
          <a:ext cx="1015920" cy="712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318440" y="4816440"/>
                    <a:ext cx="1015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8875800" y="5102280"/>
          <a:ext cx="304560" cy="280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875800" y="5102280"/>
                    <a:ext cx="304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530680" y="6081840"/>
          <a:ext cx="2463840" cy="839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30680" y="6081840"/>
                    <a:ext cx="24638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010040" y="3854520"/>
          <a:ext cx="1744560" cy="480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010040" y="3854520"/>
                    <a:ext cx="174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0520" y="5869080"/>
            <a:ext cx="45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 ποσοστό % της αρχικής κινητικής ενέργειας του συστήματος που μετατρέπεται σε θερμότυηα κατά την κρούση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6040" y="85680"/>
            <a:ext cx="935064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l-GR" sz="2000" spc="-1" strike="noStrike">
                <a:solidFill>
                  <a:srgbClr val="0000cc"/>
                </a:solidFill>
                <a:latin typeface="Comic Sans MS"/>
              </a:rPr>
              <a:t>(Σε μια κεντρική ελαστική κρούση δύο σωμάτων που το ένα είναι ακίνητο, οι αναπτυσσόμενες εσωτερικές δυνάμεις προκαλούν επιτάχυνση του ενός σώματος και επιβράδυνση του</a:t>
            </a:r>
            <a:r>
              <a:rPr b="1" i="1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l-GR" sz="2000" spc="-1" strike="noStrike">
                <a:solidFill>
                  <a:srgbClr val="0000cc"/>
                </a:solidFill>
                <a:latin typeface="Comic Sans MS"/>
              </a:rPr>
              <a:t>άλλου. Ταυτόχρονα, συμβαίνει παροδική μετατροπή της κινητικής ενέργειας σε δυναμική ενέργεια ελαστικής παραμόρφωσης, η οποία δυναμική ενέργεια μεγιστοποιείται όταν τα δύο σώματα στιγμιαία αποκτούν ίδιες ταχύτητε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ε μια κεντρική ελαστική κρούση ένα σώμα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ροσπίπτει σε ακίνητο σώμα,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Αν η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έγιστ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υναμική ενέργεια της ελαστικής παραμόρφωσης κατά τη διάρκει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ης κρούσης είναι ίση με τ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64/10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αρχικής κινητικής ενέργειας τ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τότε ο λόγος τω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ύο μαζών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5299200"/>
          <a:ext cx="15192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99200"/>
                    <a:ext cx="15192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23840" y="3502080"/>
          <a:ext cx="139716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840" y="3502080"/>
                    <a:ext cx="13971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06200" y="4365720"/>
          <a:ext cx="1554480" cy="83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200" y="4365720"/>
                    <a:ext cx="155448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1655640" y="3672000"/>
            <a:ext cx="785340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626000" y="5003640"/>
          <a:ext cx="197496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26000" y="5003640"/>
                    <a:ext cx="1974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901960" y="4351320"/>
            <a:ext cx="503280" cy="206280"/>
          </a:xfrm>
          <a:custGeom>
            <a:avLst/>
            <a:gdLst/>
            <a:ahLst/>
            <a:rect l="l" t="t" r="r" b="b"/>
            <a:pathLst>
              <a:path w="743" h="227">
                <a:moveTo>
                  <a:pt x="0" y="114"/>
                </a:moveTo>
                <a:lnTo>
                  <a:pt x="59" y="0"/>
                </a:lnTo>
                <a:lnTo>
                  <a:pt x="131" y="227"/>
                </a:lnTo>
                <a:lnTo>
                  <a:pt x="216" y="0"/>
                </a:lnTo>
                <a:lnTo>
                  <a:pt x="316" y="227"/>
                </a:lnTo>
                <a:lnTo>
                  <a:pt x="402" y="0"/>
                </a:lnTo>
                <a:lnTo>
                  <a:pt x="502" y="227"/>
                </a:lnTo>
                <a:lnTo>
                  <a:pt x="586" y="0"/>
                </a:lnTo>
                <a:lnTo>
                  <a:pt x="686" y="227"/>
                </a:lnTo>
                <a:lnTo>
                  <a:pt x="743" y="111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12760" y="2755800"/>
          <a:ext cx="230184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2755800"/>
                    <a:ext cx="23018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600280" y="2577960"/>
          <a:ext cx="2478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0280" y="2577960"/>
                    <a:ext cx="2478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47680" y="3571920"/>
          <a:ext cx="4707000" cy="71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3571920"/>
                    <a:ext cx="4707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5360" y="4705200"/>
          <a:ext cx="2986200" cy="71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360" y="4705200"/>
                    <a:ext cx="2986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946080" y="0"/>
            <a:ext cx="785340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3981600" y="1295280"/>
          <a:ext cx="19746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81600" y="1295280"/>
                    <a:ext cx="1974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7040" y="6089760"/>
          <a:ext cx="159552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040" y="6089760"/>
                    <a:ext cx="1595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68480" y="5867280"/>
          <a:ext cx="1503360" cy="83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68480" y="5867280"/>
                    <a:ext cx="15033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040280" y="6026040"/>
          <a:ext cx="30636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0280" y="6026040"/>
                    <a:ext cx="30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193840" y="693720"/>
            <a:ext cx="503280" cy="206280"/>
          </a:xfrm>
          <a:custGeom>
            <a:avLst/>
            <a:gdLst/>
            <a:ahLst/>
            <a:rect l="l" t="t" r="r" b="b"/>
            <a:pathLst>
              <a:path w="743" h="227">
                <a:moveTo>
                  <a:pt x="0" y="114"/>
                </a:moveTo>
                <a:lnTo>
                  <a:pt x="59" y="0"/>
                </a:lnTo>
                <a:lnTo>
                  <a:pt x="131" y="227"/>
                </a:lnTo>
                <a:lnTo>
                  <a:pt x="216" y="0"/>
                </a:lnTo>
                <a:lnTo>
                  <a:pt x="316" y="227"/>
                </a:lnTo>
                <a:lnTo>
                  <a:pt x="402" y="0"/>
                </a:lnTo>
                <a:lnTo>
                  <a:pt x="502" y="227"/>
                </a:lnTo>
                <a:lnTo>
                  <a:pt x="586" y="0"/>
                </a:lnTo>
                <a:lnTo>
                  <a:pt x="686" y="227"/>
                </a:lnTo>
                <a:lnTo>
                  <a:pt x="743" y="111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1080" y="120600"/>
            <a:ext cx="940896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To σώ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ισορροπεί στην πάνω άκρη ελατηρίο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ταθερά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k=120N/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υ οποίου το άλλο άκρο είναι στερεωμένο στη βάσ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λάγιου επιπέδου γωνίας κλίσ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φ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ημφ=0,6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υνφ=0,8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Το επίπεδ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πό τη βάση του μέχρι το σώ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λεί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ενώ το τμήμα από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έχρι την κορυφή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τραχύ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τη θέση ισορροπίας του σχήματος, το ελατήριο είναι συσπειρωμένο κατ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L=15c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Από την κορυφή του επιπέδου, που απέχε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s=4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πό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αφήνουμε να κινηθεί ένα σώ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1k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το οποί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ινούμεν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την τραχειά επιφάνεια συγκρούετα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λαστικά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συντελεστή τριβή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λίσθησης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=0,5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θεωρούμε t=0 τη χρονική στιγμή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ης κρούσης. Να βρείτε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μέτρο της ταχύτητας τ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λάχιστα πριν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863800" y="3757680"/>
            <a:ext cx="6257880" cy="3081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7000" y="36860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ίνεται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13160" y="0"/>
            <a:ext cx="5408640" cy="58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70000" y="646200"/>
          <a:ext cx="36669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00" y="646200"/>
                    <a:ext cx="36669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47560" y="1514520"/>
          <a:ext cx="250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560" y="1514520"/>
                    <a:ext cx="250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87440" y="2151000"/>
          <a:ext cx="28796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440" y="2151000"/>
                    <a:ext cx="287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380960" y="3860640"/>
          <a:ext cx="12891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80960" y="3860640"/>
                    <a:ext cx="128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30320" y="2994120"/>
          <a:ext cx="4122720" cy="71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0320" y="2994120"/>
                    <a:ext cx="41227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665680" y="457200"/>
          <a:ext cx="409680" cy="3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65680" y="457200"/>
                    <a:ext cx="409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33560" y="274680"/>
          <a:ext cx="177012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33560" y="274680"/>
                    <a:ext cx="177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13160" y="0"/>
            <a:ext cx="5408640" cy="5891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41120" y="135000"/>
            <a:ext cx="3864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ις ταχύτητες των σωμάτω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μέσως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5440" y="2863800"/>
          <a:ext cx="2728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2863800"/>
                    <a:ext cx="2728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95440" y="3808440"/>
          <a:ext cx="26035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440" y="3808440"/>
                    <a:ext cx="260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870120" y="1662120"/>
          <a:ext cx="179532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0120" y="1662120"/>
                    <a:ext cx="179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079640" y="2130480"/>
          <a:ext cx="11872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79640" y="2130480"/>
                    <a:ext cx="1187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665680" y="457200"/>
          <a:ext cx="409680" cy="31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5680" y="457200"/>
                    <a:ext cx="409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71440" y="1190520"/>
          <a:ext cx="10368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1440" y="1190520"/>
                    <a:ext cx="1036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313160" y="0"/>
            <a:ext cx="5408640" cy="5891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0600" y="149400"/>
            <a:ext cx="40053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 μέγιστη απόσταση που θα διανύσει το σώ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τά την κρούση μέχρι να σταματήσει στιγμιαία γι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φορ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7080" y="2130480"/>
          <a:ext cx="38415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80" y="2130480"/>
                    <a:ext cx="3841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12800" y="2946240"/>
          <a:ext cx="2630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2800" y="2946240"/>
                    <a:ext cx="2630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49400" y="3594240"/>
          <a:ext cx="3968640" cy="71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9400" y="3594240"/>
                    <a:ext cx="39686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23920" y="5692680"/>
          <a:ext cx="151776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5692680"/>
                    <a:ext cx="151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974880" y="4454640"/>
          <a:ext cx="179532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4880" y="4454640"/>
                    <a:ext cx="179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152360" y="5081760"/>
          <a:ext cx="14414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52360" y="508176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65680" y="457200"/>
          <a:ext cx="409680" cy="31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65680" y="457200"/>
                    <a:ext cx="409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039680" y="1630440"/>
          <a:ext cx="17449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39680" y="1630440"/>
                    <a:ext cx="1744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634160" y="5411880"/>
          <a:ext cx="32868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34160" y="5411880"/>
                    <a:ext cx="328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313160" y="0"/>
            <a:ext cx="5408640" cy="5891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5680" y="155520"/>
            <a:ext cx="4175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 χρονική στιγμή που το σώμ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θα σταματήσει στιγμιαία γι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φορά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19120" y="3065400"/>
          <a:ext cx="30099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" y="3065400"/>
                    <a:ext cx="3009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189080" y="4808520"/>
          <a:ext cx="159372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9080" y="4808520"/>
                    <a:ext cx="1593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181160" y="4060800"/>
          <a:ext cx="1542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1160" y="4060800"/>
                    <a:ext cx="1542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392120" y="5607000"/>
          <a:ext cx="116388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2120" y="5607000"/>
                    <a:ext cx="1163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289160" y="1247760"/>
          <a:ext cx="111276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89160" y="1247760"/>
                    <a:ext cx="1112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54000" y="2157480"/>
          <a:ext cx="1720800" cy="863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0" y="2157480"/>
                    <a:ext cx="1720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665680" y="457200"/>
          <a:ext cx="409680" cy="31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65680" y="457200"/>
                    <a:ext cx="409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313160" y="0"/>
            <a:ext cx="5408640" cy="5891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0600" y="177840"/>
            <a:ext cx="39848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5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μέτρο του ρυθμού μεταβολής της ορμής του σώματο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 χρονική στιγμή που η κινητική του ενέργεια μηδενίζεται γι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φορά μετά την κρούσ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52440" y="3144960"/>
          <a:ext cx="3240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144960"/>
                    <a:ext cx="324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41280" y="2155680"/>
          <a:ext cx="2936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2155680"/>
                    <a:ext cx="2936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57200" y="4113360"/>
          <a:ext cx="1847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13360"/>
                    <a:ext cx="1847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44400" y="5910120"/>
          <a:ext cx="136692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400" y="5910120"/>
                    <a:ext cx="1366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69880" y="5391000"/>
          <a:ext cx="179532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9880" y="5391000"/>
                    <a:ext cx="1795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665680" y="457200"/>
          <a:ext cx="409680" cy="3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65680" y="457200"/>
                    <a:ext cx="409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0" y="5167440"/>
            <a:ext cx="326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8760" y="112680"/>
            <a:ext cx="94518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η μια άκρη ενός αβαρούς και μη εκτατού νήματος μήκους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=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0,4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ένουμε σώμα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=1,9k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H άλλη άκρη του νήματος είναι στερεωμένη σε οροφή και το σύστημα βρίσκεται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ισορροπί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Βλήμ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=0,1k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ούμενο με ταχύτητα μέτρου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u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=160m/s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σχηματίζει γωνί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φ=60</a:t>
            </a:r>
            <a:r>
              <a:rPr b="1" lang="el-GR" sz="2000" spc="-1" strike="noStrike" baseline="30000">
                <a:solidFill>
                  <a:srgbClr val="0000cc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την οριζόντια διεύθυνση σφηνώνεται στο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σώμα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βρείτε: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ν ταχύτητα του συσσωματώματος αμέσως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00800" y="2614680"/>
            <a:ext cx="2990880" cy="37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7583400" y="4076640"/>
          <a:ext cx="3906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3400" y="4076640"/>
                    <a:ext cx="390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20600" y="2516040"/>
            <a:ext cx="492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ίνονται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συν60</a:t>
            </a:r>
            <a:r>
              <a:rPr b="1" lang="el-GR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1/2 κα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45456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0760" y="2936880"/>
          <a:ext cx="144756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760" y="2936880"/>
                    <a:ext cx="1447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240" y="225360"/>
            <a:ext cx="7995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κάθε μετωπική κρούση μεταξύ δύο σωμάτων διατηρείτ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ορμή κάθε σώματος ξεχωριστ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κινητική ενέργεια κάθε σώματος ξεχωριστ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κινητική ενέργεια του συστήματος των δύο σω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ορμή του συστήματος των δύο σω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16240" y="3122640"/>
          <a:ext cx="28440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6240" y="3122640"/>
                    <a:ext cx="284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180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415880" y="1395360"/>
          <a:ext cx="222480" cy="2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5880" y="1395360"/>
                    <a:ext cx="222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655720" y="1415880"/>
          <a:ext cx="22248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5720" y="1415880"/>
                    <a:ext cx="222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8508960" y="912960"/>
          <a:ext cx="222120" cy="28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08960" y="9129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937200" y="1138320"/>
          <a:ext cx="222480" cy="28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0" y="1138320"/>
                    <a:ext cx="2224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73040" y="5205240"/>
          <a:ext cx="263196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3040" y="5205240"/>
                    <a:ext cx="2631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7288200" y="3733920"/>
          <a:ext cx="202392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88200" y="3733920"/>
                    <a:ext cx="2023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525840" y="5245200"/>
          <a:ext cx="161928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25840" y="5245200"/>
                    <a:ext cx="16192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219240" y="4565520"/>
            <a:ext cx="61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ρχή διατήρηση της ορμής στο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οριζόντ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άξο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284960" y="3319560"/>
          <a:ext cx="177156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84960" y="3319560"/>
                    <a:ext cx="1771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7320" y="149400"/>
            <a:ext cx="296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επί τοις % ποσοστό της αρχικής κινητικής ενέργειας του βλήματος, που μετατράπηκε σε θερμότητα κα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861160" y="11415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1415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57600" y="1084320"/>
          <a:ext cx="222480" cy="28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7600" y="1084320"/>
                    <a:ext cx="2224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8520" y="3616200"/>
          <a:ext cx="177156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8520" y="3616200"/>
                    <a:ext cx="1771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923000" y="3390840"/>
          <a:ext cx="285876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23000" y="3390840"/>
                    <a:ext cx="28587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7934400" y="3860640"/>
          <a:ext cx="131436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34400" y="3860640"/>
                    <a:ext cx="1314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319480" y="3619440"/>
          <a:ext cx="2454120" cy="88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19480" y="3619440"/>
                    <a:ext cx="24541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697880" y="1666800"/>
            <a:ext cx="0" cy="523800"/>
          </a:xfrm>
          <a:prstGeom prst="line">
            <a:avLst/>
          </a:prstGeom>
          <a:ln w="316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3600" y="128520"/>
            <a:ext cx="296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συνημίτονο της γωνί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θ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σχηματίζει το νήμα με την κατακόρυφο, τη στιγμή που το μέτρο της τάσης του νήματος είναι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ισ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τάσης που είχε αμέσως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838840" y="11271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11271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572000" y="1106640"/>
          <a:ext cx="222120" cy="28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10664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3575160" y="3656160"/>
          <a:ext cx="337968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5160" y="3656160"/>
                    <a:ext cx="3379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03120" y="4376880"/>
          <a:ext cx="24465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120" y="4376880"/>
                    <a:ext cx="244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819520" y="3789360"/>
          <a:ext cx="585720" cy="46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789360"/>
                    <a:ext cx="5857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7184880" y="3795840"/>
          <a:ext cx="17161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4880" y="3795840"/>
                    <a:ext cx="1716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90520" y="3417840"/>
          <a:ext cx="2068560" cy="73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520" y="3417840"/>
                    <a:ext cx="2068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615080" y="4675320"/>
          <a:ext cx="123696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15080" y="4675320"/>
                    <a:ext cx="1236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7697880" y="1666800"/>
            <a:ext cx="0" cy="523800"/>
          </a:xfrm>
          <a:prstGeom prst="line">
            <a:avLst/>
          </a:prstGeom>
          <a:ln w="316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3600" y="128520"/>
            <a:ext cx="296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συνημίτονο της γωνί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θ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σχηματίζει το νήμα με την κατακόρυφο, τη στιγμή που το μέτρο της τάσης του νήματος είναι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ισ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τάσης που είχε αμέσως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838840" y="11271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11271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576680" y="1092240"/>
          <a:ext cx="222480" cy="28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6680" y="1092240"/>
                    <a:ext cx="2224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06280" y="3335400"/>
          <a:ext cx="204480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280" y="3335400"/>
                    <a:ext cx="2044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90440" y="4206960"/>
          <a:ext cx="30276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440" y="4206960"/>
                    <a:ext cx="302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3308400" y="3654360"/>
          <a:ext cx="585720" cy="46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8400" y="3654360"/>
                    <a:ext cx="5857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6240" y="3494160"/>
          <a:ext cx="441504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6240" y="3494160"/>
                    <a:ext cx="4415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597800" y="2598840"/>
          <a:ext cx="2023920" cy="482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7800" y="2598840"/>
                    <a:ext cx="2023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65240" y="6097680"/>
          <a:ext cx="598140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5240" y="6097680"/>
                    <a:ext cx="5981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544680" y="5367240"/>
          <a:ext cx="416376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4680" y="5367240"/>
                    <a:ext cx="41637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155600" y="5005440"/>
          <a:ext cx="1790640" cy="35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55600" y="5005440"/>
                    <a:ext cx="1790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7697880" y="1666800"/>
            <a:ext cx="0" cy="523800"/>
          </a:xfrm>
          <a:prstGeom prst="line">
            <a:avLst/>
          </a:prstGeom>
          <a:ln w="316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93600" y="128520"/>
            <a:ext cx="296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συνημίτονο της γωνί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θ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σχηματίζει το νήμα με την κατακόρυφο, τη στιγμή που το μέτρο της τάσης του νήματος είναι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ισό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τάσης που είχε αμέσως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838840" y="11271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11271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576680" y="1092240"/>
          <a:ext cx="222480" cy="28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6680" y="1092240"/>
                    <a:ext cx="2224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346640" y="3564000"/>
          <a:ext cx="29509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3564000"/>
                    <a:ext cx="2950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7597800" y="2598840"/>
          <a:ext cx="202392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7800" y="2598840"/>
                    <a:ext cx="2023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06280" y="4395960"/>
          <a:ext cx="5402520" cy="71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280" y="4395960"/>
                    <a:ext cx="5402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63520" y="3406680"/>
          <a:ext cx="390996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3520" y="3406680"/>
                    <a:ext cx="3909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756400" y="4552920"/>
          <a:ext cx="37098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56400" y="4552920"/>
                    <a:ext cx="3709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141720" y="5880240"/>
          <a:ext cx="121104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41720" y="5880240"/>
                    <a:ext cx="12110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975200" y="5813280"/>
          <a:ext cx="1665360" cy="7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75200" y="5813280"/>
                    <a:ext cx="16653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983040" y="5335560"/>
          <a:ext cx="123516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83040" y="5335560"/>
                    <a:ext cx="1235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7697880" y="1666800"/>
            <a:ext cx="0" cy="523800"/>
          </a:xfrm>
          <a:prstGeom prst="line">
            <a:avLst/>
          </a:prstGeom>
          <a:ln w="316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93600" y="128520"/>
            <a:ext cx="3038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ρυθμό μεταβολής τ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ινητική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νέργειας του συσσωματώματος τη στιγμή που το νήμα σχηματίζει με την κατακόρυφο τη γωνία 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838840" y="11271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11271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576680" y="1112760"/>
          <a:ext cx="22248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6680" y="1112760"/>
                    <a:ext cx="222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683480" y="1630440"/>
            <a:ext cx="0" cy="531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7360" y="4254480"/>
          <a:ext cx="396252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360" y="4254480"/>
                    <a:ext cx="39625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31840" y="3419640"/>
          <a:ext cx="764532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1840" y="3419640"/>
                    <a:ext cx="764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392720" y="4167360"/>
          <a:ext cx="167616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2720" y="4167360"/>
                    <a:ext cx="16761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137280" y="4398840"/>
          <a:ext cx="124452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7280" y="4398840"/>
                    <a:ext cx="12445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93760" y="5214960"/>
          <a:ext cx="5689440" cy="73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3760" y="5214960"/>
                    <a:ext cx="5689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6089760" y="6294600"/>
          <a:ext cx="12445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9760" y="6294600"/>
                    <a:ext cx="1244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85920" y="6129360"/>
          <a:ext cx="5511600" cy="736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920" y="6129360"/>
                    <a:ext cx="5511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8373960" y="436680"/>
            <a:ext cx="0" cy="436320"/>
          </a:xfrm>
          <a:prstGeom prst="line">
            <a:avLst/>
          </a:prstGeom>
          <a:ln w="255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373960" y="177840"/>
            <a:ext cx="257400" cy="2570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8421840" y="431640"/>
          <a:ext cx="763560" cy="28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421840" y="431640"/>
                    <a:ext cx="7635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49400" y="5040360"/>
            <a:ext cx="840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rcRect l="0" t="6673" r="32738" b="20020"/>
          <a:stretch/>
        </p:blipFill>
        <p:spPr>
          <a:xfrm>
            <a:off x="3184560" y="0"/>
            <a:ext cx="6537240" cy="3181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93600" y="128520"/>
            <a:ext cx="3038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5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ρυθμό μεταβολής τ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υναμική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νέργειας του συσσωματώματος τη στιγμή που το νήμα σχηματίζει με την κατακόρυφο τη γωνία 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838840" y="1127160"/>
          <a:ext cx="22212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1127160"/>
                    <a:ext cx="2221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576680" y="1112760"/>
          <a:ext cx="22248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6680" y="1112760"/>
                    <a:ext cx="222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683480" y="1630440"/>
            <a:ext cx="0" cy="531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44600" y="4233960"/>
          <a:ext cx="41907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4600" y="4233960"/>
                    <a:ext cx="41907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07800" y="3375000"/>
          <a:ext cx="599472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800" y="3375000"/>
                    <a:ext cx="59947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719600" y="4189320"/>
          <a:ext cx="14479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9600" y="4189320"/>
                    <a:ext cx="14479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332400" y="4405320"/>
          <a:ext cx="109224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32400" y="4405320"/>
                    <a:ext cx="1092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4120" y="5186520"/>
          <a:ext cx="3657600" cy="73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120" y="5186520"/>
                    <a:ext cx="3657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035600" y="6227640"/>
          <a:ext cx="1091880" cy="33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5600" y="6227640"/>
                    <a:ext cx="1091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07800" y="6041880"/>
          <a:ext cx="3581640" cy="736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7800" y="6041880"/>
                    <a:ext cx="358164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 flipV="1">
            <a:off x="8373960" y="177840"/>
            <a:ext cx="257400" cy="25704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73960" y="436680"/>
            <a:ext cx="0" cy="436320"/>
          </a:xfrm>
          <a:prstGeom prst="line">
            <a:avLst/>
          </a:prstGeom>
          <a:ln w="3168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426520" y="431640"/>
          <a:ext cx="782640" cy="28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426520" y="431640"/>
                    <a:ext cx="78264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41120" y="5032440"/>
            <a:ext cx="857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7918560" y="460440"/>
          <a:ext cx="420480" cy="376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18560" y="460440"/>
                    <a:ext cx="4204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8669160" y="115920"/>
          <a:ext cx="265320" cy="376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669160" y="115920"/>
                    <a:ext cx="265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8520" y="212760"/>
            <a:ext cx="9271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ε κάθε πλαστική κρούση μεταξύ δύο σωμάτω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Διατηρείται η κινητική ενέργεια του συστήματός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πριν την κρούση τα σώματα έχουν αντίθετες ορμές, το δημιουργούμενο συσσωμάτωμα παραμένει ακίνητ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σώμα μικρότερης μάζας υφίσταται μικρότερη κατά μέτρο μεταβολή στην ορμ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ου πριν την κρούση τα σώματα κινούνται σε αντίθετες κατευθύνσεις με ίσες κινητικές ενέργειες, η αρχική κινητική ενέργεια του συστήματος μετατρέπεται πάντα όλη σε θερμότητ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200480" y="4192560"/>
          <a:ext cx="31608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00480" y="4192560"/>
                    <a:ext cx="3160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5000" y="318960"/>
            <a:ext cx="93772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3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Ένα σώμα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ροσκρούει κάθετα και ελαστικά σε μια ακλόνητη επιφάνεια με ορμή μέτρου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p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κινητική ενέργει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Κ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μεταβολή του μέτρου της ορμής του σώματος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2p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μεταβολή της κινητικής ενέργειας του σώματος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2K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μέτρο της μεταβολής της ταχύτητας του σώματος είναι ίσο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ηδέ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ο έργο της συνολικής δύναμης που ασκεί η επιφάνεια στο σώμα είναι ίσο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ηδέ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322880" y="3535200"/>
          <a:ext cx="284040" cy="4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2880" y="3535200"/>
                    <a:ext cx="28404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920" y="270000"/>
            <a:ext cx="94201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4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Για τη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πιβράδυνσ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ων νετρονίων στους πυρηνικούς αντιδραστήρες, προκαλούμε την κρούση τους μ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ου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υρήνες. Αν οι κρούσεις θεωρηθούν κεντρικές ελαστικές, για να επιτύχουμε τα νετρόνια να έχου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ηδενική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ητική ενέργεια μετά την κρούση, θα πρέπει αυτά να συγκρουστούν με πυρήνε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Βηρυλλίου (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8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λίου (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Ηe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4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Υδρογόνου (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Ουρανίου (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=238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30640" y="4619520"/>
          <a:ext cx="28404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30640" y="4619520"/>
                    <a:ext cx="2840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2080" y="325440"/>
            <a:ext cx="921384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ην έκκεντρη κρούση οι ταχύτητες των κέντρων μάζας των σωμάτων που συγκρούονται είναι παράλληλες πριν και μετά την κρού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σκέδαση είναι φαινόμενο του μακρόκοσμ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πλαστική κρούση είναι ειδική περίπτωση ανελαστικής κρούσης που οδηγεί στη συγκόλληση των σω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Δ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ια σφαίρα προσπίπτει πλάγια σε μια ακλόνητη επιφάνεια και συγκρούεται ελαστικά με αυτήν. Για τη σφαίρα ισχύει η αρχή διατήρησης της ορμή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Ε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Η ορμή ενός μονωμένου συστήματος σωμάτων διατηρείται και στην περίπτωση της ανελαστικής κρού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95440" y="4959360"/>
          <a:ext cx="97776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4959360"/>
                    <a:ext cx="977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68360" y="5022720"/>
          <a:ext cx="97812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5022720"/>
                    <a:ext cx="978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65680" y="5016600"/>
          <a:ext cx="946080" cy="41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5680" y="5016600"/>
                    <a:ext cx="946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419800" y="4964040"/>
          <a:ext cx="1041480" cy="44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9800" y="4964040"/>
                    <a:ext cx="10414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338960" y="4979880"/>
          <a:ext cx="94608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38960" y="4979880"/>
                    <a:ext cx="946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5520" y="176040"/>
            <a:ext cx="927108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1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Στο σχήμα δείχνονται δύο παιδιά με πατίνια που ήταν αρχικ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κίνητ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Η μάζα του αγοριού είναι μεγαλύτερη από τη μάζα του κοριτσιού (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&gt;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A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). Tα παιδιά τραβούν το σχοινί καθένα προς το μέρος του, όταν συναντηθούν αγκαλιάζονται και παραμένουν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γκαλιασμένα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Αν αγνοηθούν οι τριβές τότε το συσσωμάτωμα που δημιουργήθηκε θα: 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α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ηθεί προς τα δεξιά.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ινηθεί προς τα αριστερά.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γ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παραμείνει ακίνητ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84640" y="2335320"/>
            <a:ext cx="427212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8280" y="3260880"/>
            <a:ext cx="9468000" cy="27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55840" y="366840"/>
            <a:ext cx="427212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3520" y="85680"/>
            <a:ext cx="93139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Comic Sans MS"/>
              </a:rPr>
              <a:t>Β2.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ια σφαί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άζας m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συγκρούεται κεντρικά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ελαστικά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με ακίνητη σφαίρα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, μάζα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Μετά την κρούση οι σφαίρες κινούνται σε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αντίθετε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τευθύνσεις και το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μέτρ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της ταχύτητας τ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είναι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διπλάσιο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από αυτό της </a:t>
            </a:r>
            <a:r>
              <a:rPr b="1" lang="el-GR" sz="2000" spc="-1" strike="noStrike">
                <a:solidFill>
                  <a:srgbClr val="0000cc"/>
                </a:solidFill>
                <a:latin typeface="Comic Sans MS"/>
              </a:rPr>
              <a:t>Σ</a:t>
            </a:r>
            <a:r>
              <a:rPr b="1" lang="el-GR" sz="20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 Τις μάζες των δύο σφαιρών τις συνδέει η σχέσ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82760" y="1397160"/>
          <a:ext cx="1396800" cy="83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760" y="1397160"/>
                    <a:ext cx="139680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36880" y="1441440"/>
          <a:ext cx="140004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36880" y="1441440"/>
                    <a:ext cx="14000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99080" y="1424160"/>
          <a:ext cx="1392120" cy="83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99080" y="1424160"/>
                    <a:ext cx="1392120" cy="83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820800" y="2906640"/>
            <a:ext cx="353880" cy="3542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6400" y="2898720"/>
            <a:ext cx="353880" cy="3542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8200" y="3303720"/>
            <a:ext cx="212724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51240" y="2921040"/>
            <a:ext cx="354240" cy="3538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07200" y="2913120"/>
            <a:ext cx="353880" cy="3538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8640" y="3317760"/>
            <a:ext cx="212724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24040" y="2400480"/>
          <a:ext cx="355320" cy="43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4040" y="2400480"/>
                    <a:ext cx="3553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994040" y="2394000"/>
          <a:ext cx="380880" cy="43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4040" y="2394000"/>
                    <a:ext cx="3808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2400" y="2406600"/>
          <a:ext cx="355680" cy="43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2400" y="2406600"/>
                    <a:ext cx="355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424480" y="2428920"/>
          <a:ext cx="380880" cy="43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24480" y="2428920"/>
                    <a:ext cx="3808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063800" y="3083040"/>
            <a:ext cx="4744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14920" y="3060720"/>
            <a:ext cx="47484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05360" y="3076560"/>
            <a:ext cx="47448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79440" y="2570040"/>
          <a:ext cx="279360" cy="43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79440" y="2570040"/>
                    <a:ext cx="279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03760" y="2583000"/>
          <a:ext cx="304560" cy="430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03760" y="2583000"/>
                    <a:ext cx="304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08840" y="2711520"/>
          <a:ext cx="304560" cy="430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108840" y="2711520"/>
                    <a:ext cx="304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6760" y="4062240"/>
          <a:ext cx="1871640" cy="836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6760" y="4062240"/>
                    <a:ext cx="1871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340000" y="4017960"/>
          <a:ext cx="1897200" cy="836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40000" y="4017960"/>
                    <a:ext cx="18972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9240" y="5342040"/>
          <a:ext cx="1188720" cy="431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9240" y="5342040"/>
                    <a:ext cx="118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63840" y="5141880"/>
          <a:ext cx="1365120" cy="8380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563840" y="5141880"/>
                    <a:ext cx="1365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25440" y="3559320"/>
          <a:ext cx="3463920" cy="379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25440" y="3559320"/>
                    <a:ext cx="34639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98680" y="5410080"/>
          <a:ext cx="304920" cy="2811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298680" y="5410080"/>
                    <a:ext cx="30492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176960" y="2562120"/>
          <a:ext cx="609840" cy="2779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176960" y="2562120"/>
                    <a:ext cx="6098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53040" y="4033800"/>
          <a:ext cx="2049480" cy="8366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153040" y="4033800"/>
                    <a:ext cx="2049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540560" y="4033800"/>
          <a:ext cx="1897200" cy="8366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7540560" y="4033800"/>
                    <a:ext cx="18972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97360" y="5448240"/>
          <a:ext cx="1036800" cy="43200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697360" y="5448240"/>
                    <a:ext cx="1036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072200" y="5189400"/>
          <a:ext cx="1365480" cy="8384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7072200" y="5189400"/>
                    <a:ext cx="1365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812080" y="5527800"/>
          <a:ext cx="304920" cy="28080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8812080" y="5527800"/>
                    <a:ext cx="30492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803920" y="3616200"/>
          <a:ext cx="2198520" cy="3794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5803920" y="3616200"/>
                    <a:ext cx="21985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799160" y="3651120"/>
            <a:ext cx="0" cy="294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56:58Z</dcterms:created>
  <dc:creator>Nikos</dc:creator>
  <dc:description/>
  <dc:language>en-US</dc:language>
  <cp:lastModifiedBy>Nikos</cp:lastModifiedBy>
  <dcterms:modified xsi:type="dcterms:W3CDTF">2020-04-11T21:05:17Z</dcterms:modified>
  <cp:revision>2104</cp:revision>
  <dc:subject/>
  <dc:title>Διαφάνεια 1</dc:title>
</cp:coreProperties>
</file>