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74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0.wmf" ContentType="image/x-wmf"/>
  <Override PartName="/ppt/media/image27.png" ContentType="image/png"/>
  <Override PartName="/ppt/media/image92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90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50.wmf" ContentType="image/x-wmf"/>
  <Override PartName="/ppt/media/image73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87.wmf" ContentType="image/x-wmf"/>
  <Override PartName="/ppt/media/image107.wmf" ContentType="image/x-wmf"/>
  <Override PartName="/ppt/media/image6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4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65.png" ContentType="image/png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10.png" ContentType="image/png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723438" cy="72898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D68-B5D2-4F79-A021-10716230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875052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4215240"/>
            <a:ext cx="875052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9C2-E851-4FE3-BA35-B7F20FBF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C0C-0CBA-424D-8ED0-E39FB2A6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70172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70172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421524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421524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421524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27D-F121-48CD-B591-4F3B2005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701720"/>
            <a:ext cx="87505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A85-0605-42ED-A3D2-8C3E2455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875052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C47-4541-4B8F-B792-BA283701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188-547B-4676-842F-93D680DD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491-14BB-4EE1-B6C6-25339FCC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91960"/>
            <a:ext cx="8750520" cy="56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9E6-97F7-4690-8C76-A0165256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A95-9676-440F-B443-2E9CEAFD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7DA-6B34-4F84-ADAF-E9D5DE8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4215240"/>
            <a:ext cx="875052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5AD-DC9D-47C3-A51E-2F6C46BB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701720"/>
            <a:ext cx="875052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049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4280" indent="-2426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87720" indent="-2430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87720" indent="-2430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87720" indent="-2430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640200"/>
            <a:ext cx="2268720" cy="506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l-GR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640200"/>
            <a:ext cx="3079800" cy="506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l-GR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6640200"/>
            <a:ext cx="2268720" cy="506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l-GR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D500E36-F497-44C0-8679-A5C77EBF0DFB}" type="slidenum">
              <a:rPr b="0" lang="el-G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2.wmf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55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56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57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58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59.wmf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60.wmf"/><Relationship Id="rId37" Type="http://schemas.openxmlformats.org/officeDocument/2006/relationships/oleObject" Target="../embeddings/oleObject18.bin"/><Relationship Id="rId38" Type="http://schemas.openxmlformats.org/officeDocument/2006/relationships/image" Target="../media/image61.wmf"/><Relationship Id="rId39" Type="http://schemas.openxmlformats.org/officeDocument/2006/relationships/oleObject" Target="../embeddings/oleObject19.bin"/><Relationship Id="rId40" Type="http://schemas.openxmlformats.org/officeDocument/2006/relationships/image" Target="../media/image62.wmf"/><Relationship Id="rId4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image" Target="../media/image6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70.wmf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0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7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9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7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76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91.wmf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5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0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06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07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08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95.wmf"/><Relationship Id="rId3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3.wm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7.wm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2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2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4.wmf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0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23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24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25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26.wmf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8080" y="2708280"/>
            <a:ext cx="586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Διαγώνισμ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Ρευστά  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με θέματα από το Ψηφιακό Σχολεί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0" y="3693960"/>
            <a:ext cx="595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α θέματα επιμελήθηκε ο Δουκατζής Βασίλει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9400" y="135000"/>
            <a:ext cx="94629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συνολική πίεση στον πυθμένα ενό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νοικτού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δοχείου γεμάτου με υγρό πυκνότητ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ρ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είναι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P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1,2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P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Comic Sans MS"/>
              </a:rPr>
              <a:t>at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Αντικαθιστούμε το αρχικό υγρό με άλλ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ίσου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όγκου, πυκνότητ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ρ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για την οποία ισχύε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ρ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2ρ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Η συνολική πίεση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P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επικρατεί στον πυθμένα του δοχείου είναι: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1,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2,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2,8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400" y="1928880"/>
            <a:ext cx="59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Για την αρχική πίεση στον πυθμένα ισχύε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35080" y="2441520"/>
          <a:ext cx="1752480" cy="4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080" y="2441520"/>
                    <a:ext cx="1752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439560" y="3268800"/>
            <a:ext cx="458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Μετά την αλλαγή του υγρού ισχύε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915240" y="5025960"/>
          <a:ext cx="379440" cy="3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15240" y="5025960"/>
                    <a:ext cx="3794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035080" y="2441520"/>
          <a:ext cx="2616120" cy="43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35080" y="2441520"/>
                    <a:ext cx="2616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859280" y="2433600"/>
          <a:ext cx="2514600" cy="43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59280" y="2433600"/>
                    <a:ext cx="25146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16000" y="3879720"/>
          <a:ext cx="180324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000" y="3879720"/>
                    <a:ext cx="1803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241720" y="3906720"/>
          <a:ext cx="2869920" cy="43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41720" y="3906720"/>
                    <a:ext cx="28699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801720" y="4973760"/>
          <a:ext cx="1396800" cy="380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01720" y="4973760"/>
                    <a:ext cx="1396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246400" y="4933800"/>
          <a:ext cx="2336760" cy="43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46400" y="4933800"/>
                    <a:ext cx="2336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730760" y="4940280"/>
          <a:ext cx="1701720" cy="43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30760" y="4940280"/>
                    <a:ext cx="1701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360" y="98280"/>
            <a:ext cx="939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4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ο σχήμα δείχνεται ένας οριζόντιο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σωλήνας μεταβλητής διατομής ο οποίος μέσω των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κατακόρυφων σωλήνω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1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2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πικοινωνεί με τ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νερό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δύ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ίδιω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δοχείων,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Β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που περιέχου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ίδιε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ποσότητες νερού. Διοχετεύουμε στον οριζόντιο σωλήν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έρ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τον οποίο θεωρούμε ιδανικό ρευστό με ρ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αέρα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ρ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νερού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Για τη στάθμη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ου νερού στους σωλήνε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1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2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τά τη διοχέτευση το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έρα ισχύει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h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&gt; h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&lt; h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857920" y="2101680"/>
            <a:ext cx="3863880" cy="269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399960" y="2432160"/>
          <a:ext cx="152424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432160"/>
                    <a:ext cx="1524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023240" y="2216160"/>
          <a:ext cx="22356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3240" y="2216160"/>
                    <a:ext cx="223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854920" y="2333520"/>
          <a:ext cx="24624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54920" y="2333520"/>
                    <a:ext cx="246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80880" y="2944800"/>
          <a:ext cx="167652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44800"/>
                    <a:ext cx="16765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57120" y="3517920"/>
          <a:ext cx="175284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3517920"/>
                    <a:ext cx="1752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119320" y="2978280"/>
          <a:ext cx="536400" cy="42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19320" y="2978280"/>
                    <a:ext cx="5364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811600" y="2963880"/>
          <a:ext cx="2946240" cy="43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11600" y="2963880"/>
                    <a:ext cx="2946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9680" y="4265640"/>
          <a:ext cx="1066680" cy="431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9680" y="4265640"/>
                    <a:ext cx="1066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504800" y="4233960"/>
          <a:ext cx="1752840" cy="43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04800" y="4233960"/>
                    <a:ext cx="1752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041560" y="4648320"/>
          <a:ext cx="96516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41560" y="4648320"/>
                    <a:ext cx="9651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06760" y="4262400"/>
          <a:ext cx="1752480" cy="432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06760" y="4262400"/>
                    <a:ext cx="1752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81160" y="5264280"/>
          <a:ext cx="2768400" cy="711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1160" y="5264280"/>
                    <a:ext cx="27684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130560" y="5319720"/>
          <a:ext cx="3606840" cy="711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130560" y="5319720"/>
                    <a:ext cx="36068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367320" y="6329520"/>
          <a:ext cx="2286000" cy="431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367320" y="6329520"/>
                    <a:ext cx="2286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075040" y="6226200"/>
          <a:ext cx="180324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075040" y="6226200"/>
                    <a:ext cx="1803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9120240" y="6254640"/>
          <a:ext cx="379440" cy="443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9120240" y="6254640"/>
                    <a:ext cx="37944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63600" y="6265800"/>
          <a:ext cx="1396800" cy="3812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63600" y="6265800"/>
                    <a:ext cx="13968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flipV="1">
            <a:off x="7988400" y="2558880"/>
            <a:ext cx="374400" cy="446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489720" y="2182680"/>
          <a:ext cx="330120" cy="4320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489720" y="2182680"/>
                    <a:ext cx="330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210600" y="2301840"/>
          <a:ext cx="355680" cy="4320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9210600" y="2301840"/>
                    <a:ext cx="355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2920" y="149400"/>
            <a:ext cx="609588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ανοιχτό δοχείο του σχήματος περιέχει νερό και λάδι με πυκνότητε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ρ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ν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1.000kg/m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3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ρ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λ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800kg/m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3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ντίστοιχα. Το στρώμα του λαδιού έχει πάχο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d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0,50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ενώ του νερού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d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1,4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Στη βάση του πυθμένα και στην πλευρική του επιφάνεια υπάρχει οπή εμβαδού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=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2cm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είναι κλεισμένη μ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τάπ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1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βρείτε πόση είναι η συνολική πίεση στη διαχωριστική επιφάνεια λαδιού-νερο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2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βρείτε τη δύναμη (μέτρο και κατεύθυνση) που ασκείται από το νερό στη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τάπ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2000" y="4367160"/>
          <a:ext cx="48240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4367160"/>
                    <a:ext cx="4824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055520" y="4354560"/>
          <a:ext cx="41148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55520" y="4354560"/>
                    <a:ext cx="411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826320" y="0"/>
            <a:ext cx="2895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1011240" y="5037120"/>
          <a:ext cx="406404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11240" y="5037120"/>
                    <a:ext cx="4064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47680" y="5106960"/>
          <a:ext cx="48240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7680" y="5106960"/>
                    <a:ext cx="4824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95440" y="5767560"/>
          <a:ext cx="223524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5440" y="5767560"/>
                    <a:ext cx="2235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738920" y="6697800"/>
          <a:ext cx="142272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38920" y="6697800"/>
                    <a:ext cx="1422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9288360" y="1938240"/>
          <a:ext cx="33048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288360" y="1938240"/>
                    <a:ext cx="330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446720" y="5873760"/>
            <a:ext cx="310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Να βρείτε το μέτρο της στατικής τριβής που ασκέιται στην τάπ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172280" y="4830840"/>
            <a:ext cx="1706400" cy="1558800"/>
            <a:chOff x="7172280" y="4830840"/>
            <a:chExt cx="1706400" cy="1558800"/>
          </a:xfrm>
        </p:grpSpPr>
        <p:sp>
          <p:nvSpPr>
            <p:cNvPr id="202" name=""/>
            <p:cNvSpPr/>
            <p:nvPr/>
          </p:nvSpPr>
          <p:spPr>
            <a:xfrm>
              <a:off x="8124840" y="5294520"/>
              <a:ext cx="191880" cy="9712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2280" y="5641920"/>
              <a:ext cx="928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343720" y="6005520"/>
              <a:ext cx="439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8335440" y="5629320"/>
              <a:ext cx="4748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7538760" y="5259240"/>
            <a:ext cx="254160" cy="330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538760" y="5259240"/>
                      <a:ext cx="25416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8523000" y="5137200"/>
            <a:ext cx="355680" cy="4316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523000" y="5137200"/>
                      <a:ext cx="35568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"/>
            <p:cNvGraphicFramePr/>
            <p:nvPr/>
          </p:nvGraphicFramePr>
          <p:xfrm>
            <a:off x="8534160" y="6059520"/>
            <a:ext cx="304920" cy="3301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534160" y="6059520"/>
                      <a:ext cx="3049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8042040" y="4830840"/>
            <a:ext cx="330480" cy="431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042040" y="4830840"/>
                      <a:ext cx="33048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311040" y="3786120"/>
            <a:ext cx="500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Δίνονται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=10m/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και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0240" cy="5248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778120" y="14940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φαιρούμε την τάπα.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βρείτε την ταχύτητα εκροή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ου νερού από την οπή αμέσως μετά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ην αφαίρεση της τάπας. 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Ν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θεωρήσετε το εμβαδό της οπής πολύ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μικρότερο από την επιφάνεια το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δοχεί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378320" y="2249640"/>
          <a:ext cx="3835440" cy="71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78320" y="2249640"/>
                    <a:ext cx="38354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475240" y="3083040"/>
          <a:ext cx="134640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5240" y="3083040"/>
                    <a:ext cx="1346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978280" y="2409840"/>
            <a:ext cx="5950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90760" y="1870200"/>
          <a:ext cx="35568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90760" y="1870200"/>
                    <a:ext cx="355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407200" y="1893960"/>
          <a:ext cx="939600" cy="35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07200" y="1893960"/>
                    <a:ext cx="9396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568600" y="1860480"/>
          <a:ext cx="33012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68600" y="1860480"/>
                    <a:ext cx="330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0240" cy="5248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805120" y="14292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4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βρείτε το ύψο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d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ο οποί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βρίσκεται η βάση του δοχείου, αν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γνωρίζουμε ότι η φλέβα νερού, πο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σχηματίζεται αμέσως μετά την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φαίρεση της τάπας, συναντά τ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δάπεδο σε οριζόντια απόσταση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s=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3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πό την οπ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68760" y="2313000"/>
          <a:ext cx="1219320" cy="71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8760" y="2313000"/>
                    <a:ext cx="12193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290760" y="1870200"/>
          <a:ext cx="35568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0760" y="1870200"/>
                    <a:ext cx="355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78280" y="2409840"/>
            <a:ext cx="5950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91080" y="1773360"/>
          <a:ext cx="99072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91080" y="1773360"/>
                    <a:ext cx="990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686560" y="1817640"/>
          <a:ext cx="1523880" cy="35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86560" y="1817640"/>
                    <a:ext cx="1523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869080" y="2492280"/>
          <a:ext cx="172728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69080" y="2492280"/>
                    <a:ext cx="1727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568600" y="1860480"/>
          <a:ext cx="330120" cy="43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68600" y="1860480"/>
                    <a:ext cx="330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0240" cy="5248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805120" y="142920"/>
            <a:ext cx="6715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5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βρείτε τη διατομή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ς φλέβας τη στιγμή που φτάνει στο έδαφο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290760" y="1870200"/>
          <a:ext cx="35568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90760" y="1870200"/>
                    <a:ext cx="355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978280" y="2409840"/>
            <a:ext cx="5950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226040" y="1039680"/>
          <a:ext cx="4343400" cy="635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26040" y="1039680"/>
                    <a:ext cx="43434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807080" y="1941480"/>
          <a:ext cx="1143000" cy="43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7080" y="1941480"/>
                    <a:ext cx="1143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235480" y="4229280"/>
          <a:ext cx="35568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5480" y="4229280"/>
                    <a:ext cx="355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770360" y="4341960"/>
          <a:ext cx="25416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70360" y="4341960"/>
                    <a:ext cx="254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006960" y="1946160"/>
          <a:ext cx="1828800" cy="43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06960" y="1946160"/>
                    <a:ext cx="1828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713560" y="2473200"/>
          <a:ext cx="1295280" cy="838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13560" y="2473200"/>
                    <a:ext cx="129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0" name=""/>
          <p:cNvGrpSpPr/>
          <p:nvPr/>
        </p:nvGrpSpPr>
        <p:grpSpPr>
          <a:xfrm>
            <a:off x="4884840" y="4245120"/>
            <a:ext cx="1434960" cy="1436400"/>
            <a:chOff x="4884840" y="4245120"/>
            <a:chExt cx="1434960" cy="1436400"/>
          </a:xfrm>
        </p:grpSpPr>
        <p:sp>
          <p:nvSpPr>
            <p:cNvPr id="261" name=""/>
            <p:cNvSpPr/>
            <p:nvPr/>
          </p:nvSpPr>
          <p:spPr>
            <a:xfrm>
              <a:off x="5259240" y="4672080"/>
              <a:ext cx="681120" cy="68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56360" y="4675320"/>
              <a:ext cx="703080" cy="0"/>
            </a:xfrm>
            <a:prstGeom prst="line">
              <a:avLst/>
            </a:prstGeom>
            <a:ln w="442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67160" y="4686480"/>
              <a:ext cx="0" cy="693720"/>
            </a:xfrm>
            <a:prstGeom prst="line">
              <a:avLst/>
            </a:prstGeom>
            <a:ln w="442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51320" y="4670280"/>
              <a:ext cx="689040" cy="689040"/>
            </a:xfrm>
            <a:prstGeom prst="line">
              <a:avLst/>
            </a:prstGeom>
            <a:ln w="442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6010200" y="5235480"/>
            <a:ext cx="304920" cy="4320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010200" y="5235480"/>
                      <a:ext cx="3049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"/>
            <p:cNvGraphicFramePr/>
            <p:nvPr/>
          </p:nvGraphicFramePr>
          <p:xfrm>
            <a:off x="5964120" y="4245120"/>
            <a:ext cx="355680" cy="4316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5964120" y="4245120"/>
                      <a:ext cx="35568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"/>
            <p:cNvGraphicFramePr/>
            <p:nvPr/>
          </p:nvGraphicFramePr>
          <p:xfrm>
            <a:off x="4884840" y="5224320"/>
            <a:ext cx="304560" cy="4572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884840" y="5224320"/>
                      <a:ext cx="3045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1" name=""/>
          <p:cNvGraphicFramePr/>
          <p:nvPr/>
        </p:nvGraphicFramePr>
        <p:xfrm>
          <a:off x="2568600" y="1860480"/>
          <a:ext cx="330120" cy="432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568600" y="1860480"/>
                    <a:ext cx="330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457360" y="2789280"/>
          <a:ext cx="1346400" cy="431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457360" y="2789280"/>
                    <a:ext cx="1346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7178760" y="2622600"/>
          <a:ext cx="2082600" cy="4572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178760" y="2622600"/>
                    <a:ext cx="2082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1800" cy="4314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79280" y="4402080"/>
            <a:ext cx="0" cy="98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440676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440" y="5372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5120" y="4932360"/>
            <a:ext cx="406440" cy="428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3880" y="3843360"/>
            <a:ext cx="0" cy="12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3960" y="3851280"/>
            <a:ext cx="0" cy="12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9720" y="3846600"/>
            <a:ext cx="74880" cy="124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2240" y="4226040"/>
            <a:ext cx="0" cy="6998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20880" y="4376880"/>
          <a:ext cx="33012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0880" y="4376880"/>
                    <a:ext cx="3301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3387600" y="147600"/>
            <a:ext cx="610416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ο σχήμα δείχνεται μία δεξαμενή διατομή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=5m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ν οποία γεμίζουμε με νερό μέσω αντλίας από πηγάδι του οποίου η επιφάνεια του νερού βρίσκεται σταθερά σε βάθο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H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2,8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άτω από το οριζόντιο έδαφος. Η δεξαμενή έχει ύψο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H=1,8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βρίσκεται σε βάση ύψου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h=3,2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πό το έδαφος. Η παροχή της αντλίας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Π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2·10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–3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3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/s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το νερό εκρέει στη δεξαμενή με ταχύτητα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u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2m/s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35800" y="3459240"/>
            <a:ext cx="3855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Η αντλία με κατάλληλο μηχανισμό έναρξης – διακοπής κρατά διαρκώς γεμάτη τη δεξαμεν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5640" y="5584680"/>
            <a:ext cx="88725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Στο σημεί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Γ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υπάρχει οπή με διατομή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4cm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που συνδέεται με λάστιχο ίδιας διαμέτρου και μετά το σημεί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ταλήγει σε στενότερο σωλήνα διατομή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3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2cm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ο οποίος στο σημεί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Ζ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υναντά την ατμόσφαιρα. Στο σημεί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Γ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υπάρχει διακόπτης που αρχικά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λειστό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179360" y="150840"/>
          <a:ext cx="228600" cy="2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79360" y="15084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16"/>
          <p:cNvGraphicFramePr/>
          <p:nvPr/>
        </p:nvGraphicFramePr>
        <p:xfrm>
          <a:off x="1173240" y="487440"/>
          <a:ext cx="244440" cy="28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4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3240" y="487440"/>
                    <a:ext cx="2444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2212920" y="1627200"/>
            <a:ext cx="49320" cy="13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67000" y="4427640"/>
            <a:ext cx="4074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Δίνονται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=10m/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/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και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mic Sans MS"/>
              </a:rPr>
              <a:t>ν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=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g/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1800" cy="4314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4402080"/>
            <a:ext cx="0" cy="98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440676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440" y="5372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5120" y="4932360"/>
            <a:ext cx="406440" cy="428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3880" y="3843360"/>
            <a:ext cx="0" cy="12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3960" y="3851280"/>
            <a:ext cx="0" cy="12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9720" y="3846600"/>
            <a:ext cx="74880" cy="124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2240" y="4226040"/>
            <a:ext cx="0" cy="6998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920880" y="4376880"/>
          <a:ext cx="33012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0880" y="4376880"/>
                    <a:ext cx="3301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179360" y="150840"/>
          <a:ext cx="228600" cy="2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79360" y="15084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559320" y="120600"/>
            <a:ext cx="365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Να υπολογίσετε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1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ν ισχύ της αντλία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43680" y="3497400"/>
          <a:ext cx="91440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43680" y="349740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17"/>
          <p:cNvGraphicFramePr/>
          <p:nvPr/>
        </p:nvGraphicFramePr>
        <p:xfrm>
          <a:off x="5040360" y="1109520"/>
          <a:ext cx="2089080" cy="666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4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40360" y="1109520"/>
                    <a:ext cx="20890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16"/>
          <p:cNvGraphicFramePr/>
          <p:nvPr/>
        </p:nvGraphicFramePr>
        <p:xfrm>
          <a:off x="3301920" y="1281240"/>
          <a:ext cx="1666800" cy="37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6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01920" y="1281240"/>
                    <a:ext cx="16668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6"/>
          <p:cNvGraphicFramePr/>
          <p:nvPr/>
        </p:nvGraphicFramePr>
        <p:xfrm>
          <a:off x="7288200" y="1127160"/>
          <a:ext cx="1955880" cy="64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88200" y="1127160"/>
                    <a:ext cx="19558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7"/>
          <p:cNvGraphicFramePr/>
          <p:nvPr/>
        </p:nvGraphicFramePr>
        <p:xfrm>
          <a:off x="5203800" y="1954080"/>
          <a:ext cx="1378080" cy="622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0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03800" y="1954080"/>
                    <a:ext cx="13780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8"/>
          <p:cNvGraphicFramePr/>
          <p:nvPr/>
        </p:nvGraphicFramePr>
        <p:xfrm>
          <a:off x="7183440" y="2085840"/>
          <a:ext cx="1666800" cy="378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2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183440" y="2085840"/>
                    <a:ext cx="16668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9"/>
          <p:cNvGraphicFramePr/>
          <p:nvPr/>
        </p:nvGraphicFramePr>
        <p:xfrm>
          <a:off x="5824440" y="4829040"/>
          <a:ext cx="2978280" cy="622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4" name="Object 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24440" y="4829040"/>
                    <a:ext cx="2978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8"/>
          <p:cNvGraphicFramePr/>
          <p:nvPr/>
        </p:nvGraphicFramePr>
        <p:xfrm>
          <a:off x="5846760" y="3855960"/>
          <a:ext cx="3089160" cy="644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6" name="Object 8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846760" y="3855960"/>
                    <a:ext cx="30891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7"/>
          <p:cNvGraphicFramePr/>
          <p:nvPr/>
        </p:nvGraphicFramePr>
        <p:xfrm>
          <a:off x="5748480" y="2852640"/>
          <a:ext cx="2889000" cy="6447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8" name="Object 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748480" y="2852640"/>
                    <a:ext cx="28890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9"/>
          <p:cNvGraphicFramePr/>
          <p:nvPr/>
        </p:nvGraphicFramePr>
        <p:xfrm>
          <a:off x="6600960" y="5675400"/>
          <a:ext cx="1355760" cy="377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30" name="Object 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600960" y="5675400"/>
                    <a:ext cx="13557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8"/>
          <p:cNvGraphicFramePr/>
          <p:nvPr/>
        </p:nvGraphicFramePr>
        <p:xfrm>
          <a:off x="2030400" y="4378320"/>
          <a:ext cx="2755800" cy="3780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32" name="Object 8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030400" y="4378320"/>
                    <a:ext cx="27558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8"/>
          <p:cNvGraphicFramePr/>
          <p:nvPr/>
        </p:nvGraphicFramePr>
        <p:xfrm>
          <a:off x="2567160" y="4822920"/>
          <a:ext cx="1333440" cy="377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34" name="Object 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567160" y="4822920"/>
                    <a:ext cx="13334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16"/>
          <p:cNvGraphicFramePr/>
          <p:nvPr/>
        </p:nvGraphicFramePr>
        <p:xfrm>
          <a:off x="1173240" y="487440"/>
          <a:ext cx="244440" cy="2887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36" name="Object 1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1173240" y="487440"/>
                    <a:ext cx="2444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2212920" y="1627200"/>
            <a:ext cx="49320" cy="13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1800" cy="43149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79280" y="4402080"/>
            <a:ext cx="0" cy="98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440676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0440" y="5372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5120" y="4932360"/>
            <a:ext cx="406440" cy="428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3880" y="3843360"/>
            <a:ext cx="0" cy="12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3960" y="3851280"/>
            <a:ext cx="0" cy="12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9720" y="3846600"/>
            <a:ext cx="74880" cy="124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2240" y="4226040"/>
            <a:ext cx="0" cy="6998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20880" y="4376880"/>
          <a:ext cx="33012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0880" y="4376880"/>
                    <a:ext cx="3301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1179360" y="150840"/>
          <a:ext cx="228600" cy="2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79360" y="15084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3425760" y="155520"/>
            <a:ext cx="61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Να υπολογίσετε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2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ν χρόνο που χρειάζεται για να γεμίσει η δεξαμεν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043680" y="3497400"/>
          <a:ext cx="91440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43680" y="349740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6"/>
          <p:cNvGraphicFramePr/>
          <p:nvPr/>
        </p:nvGraphicFramePr>
        <p:xfrm>
          <a:off x="4818240" y="1954080"/>
          <a:ext cx="1800000" cy="333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5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18240" y="1954080"/>
                    <a:ext cx="18000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4048200" y="1438200"/>
            <a:ext cx="39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Ο όγκος της δεξαμενής είνα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16"/>
          <p:cNvGraphicFramePr/>
          <p:nvPr/>
        </p:nvGraphicFramePr>
        <p:xfrm>
          <a:off x="1173240" y="487440"/>
          <a:ext cx="244440" cy="28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8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73240" y="487440"/>
                    <a:ext cx="2444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16"/>
          <p:cNvGraphicFramePr/>
          <p:nvPr/>
        </p:nvGraphicFramePr>
        <p:xfrm>
          <a:off x="5529240" y="2522520"/>
          <a:ext cx="933480" cy="64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0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29240" y="2522520"/>
                    <a:ext cx="9334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8"/>
          <p:cNvGraphicFramePr/>
          <p:nvPr/>
        </p:nvGraphicFramePr>
        <p:xfrm>
          <a:off x="1849320" y="4340160"/>
          <a:ext cx="1889280" cy="333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2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49320" y="4340160"/>
                    <a:ext cx="1889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6"/>
          <p:cNvGraphicFramePr/>
          <p:nvPr/>
        </p:nvGraphicFramePr>
        <p:xfrm>
          <a:off x="6624720" y="2682720"/>
          <a:ext cx="1689120" cy="311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4" name="Object 1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624720" y="2682720"/>
                    <a:ext cx="168912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6"/>
          <p:cNvGraphicFramePr/>
          <p:nvPr/>
        </p:nvGraphicFramePr>
        <p:xfrm>
          <a:off x="6135840" y="3489480"/>
          <a:ext cx="2066760" cy="311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6" name="Object 1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135840" y="3489480"/>
                    <a:ext cx="20667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12920" y="1627200"/>
            <a:ext cx="49320" cy="13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1800" cy="431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4402080"/>
            <a:ext cx="0" cy="98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440676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0440" y="5372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5120" y="4932360"/>
            <a:ext cx="406440" cy="428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3880" y="3843360"/>
            <a:ext cx="0" cy="12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3960" y="3851280"/>
            <a:ext cx="0" cy="12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9720" y="3846600"/>
            <a:ext cx="74880" cy="124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2240" y="4226040"/>
            <a:ext cx="0" cy="6998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920880" y="4376880"/>
          <a:ext cx="33012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0880" y="4376880"/>
                    <a:ext cx="3301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179360" y="150840"/>
          <a:ext cx="228600" cy="2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79360" y="15084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3425760" y="155520"/>
            <a:ext cx="610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νοίγουμε τον διακόπτη και μετά από λίγο έχουμε μόνιμη και στρωτή ροή μέσα στον σωλήνα. Να βρείτε: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ν ταχύτητα του νερού και την κινητική ενέργεια ανά μονάδα όγκου στο σημείο 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6043680" y="3497400"/>
          <a:ext cx="91440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43680" y="349740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6"/>
          <p:cNvGraphicFramePr/>
          <p:nvPr/>
        </p:nvGraphicFramePr>
        <p:xfrm>
          <a:off x="5810400" y="2965320"/>
          <a:ext cx="1288800" cy="37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10400" y="2965320"/>
                    <a:ext cx="12888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6"/>
          <p:cNvGraphicFramePr/>
          <p:nvPr/>
        </p:nvGraphicFramePr>
        <p:xfrm>
          <a:off x="1173240" y="487440"/>
          <a:ext cx="244440" cy="28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7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73240" y="487440"/>
                    <a:ext cx="2444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16"/>
          <p:cNvGraphicFramePr/>
          <p:nvPr/>
        </p:nvGraphicFramePr>
        <p:xfrm>
          <a:off x="5776920" y="3716280"/>
          <a:ext cx="3200400" cy="733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9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76920" y="3716280"/>
                    <a:ext cx="320040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16"/>
          <p:cNvGraphicFramePr/>
          <p:nvPr/>
        </p:nvGraphicFramePr>
        <p:xfrm>
          <a:off x="5899320" y="1935000"/>
          <a:ext cx="799920" cy="289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91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99320" y="1935000"/>
                    <a:ext cx="79992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16"/>
          <p:cNvGraphicFramePr/>
          <p:nvPr/>
        </p:nvGraphicFramePr>
        <p:xfrm>
          <a:off x="4570560" y="2235240"/>
          <a:ext cx="3911400" cy="622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93" name="Object 1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70560" y="2235240"/>
                    <a:ext cx="39114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7840" y="212760"/>
            <a:ext cx="93279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1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παροχή μίας βρύσης είναι Π=0,004m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/s. Ο όγκος του νερού που ρέει από τη βρύση σε χρονικό διάστημα Δt=1min είνα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V = 0,24 cm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V = 0,24 m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V = 2.400 cm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V = 0,024 m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098960" y="3659040"/>
          <a:ext cx="315720" cy="4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98960" y="3659040"/>
                    <a:ext cx="31572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1800" cy="4314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79280" y="4402080"/>
            <a:ext cx="1800" cy="98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4406760"/>
            <a:ext cx="180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0440" y="5372280"/>
            <a:ext cx="432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5120" y="4932360"/>
            <a:ext cx="406440" cy="428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3880" y="3843360"/>
            <a:ext cx="1800" cy="12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3960" y="3851280"/>
            <a:ext cx="1800" cy="12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9720" y="3846600"/>
            <a:ext cx="74880" cy="124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2240" y="4226040"/>
            <a:ext cx="1800" cy="6998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920880" y="4376880"/>
          <a:ext cx="33012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0880" y="4376880"/>
                    <a:ext cx="3301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1179360" y="150840"/>
          <a:ext cx="228600" cy="2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79360" y="15084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3425760" y="155520"/>
            <a:ext cx="610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νοίγουμε τον διακόπτη και μετά από λίγο έχουμε μόνιμη και στρωτή ροή μέσα στον σωλήνα. Να βρείτε: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4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ν πίεση στο σημείο 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043680" y="3497400"/>
          <a:ext cx="91440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43680" y="349740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16"/>
          <p:cNvGraphicFramePr/>
          <p:nvPr/>
        </p:nvGraphicFramePr>
        <p:xfrm>
          <a:off x="6267600" y="3798720"/>
          <a:ext cx="2333520" cy="4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1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67600" y="3798720"/>
                    <a:ext cx="233352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6"/>
          <p:cNvGraphicFramePr/>
          <p:nvPr/>
        </p:nvGraphicFramePr>
        <p:xfrm>
          <a:off x="1173240" y="487440"/>
          <a:ext cx="244440" cy="28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3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73240" y="487440"/>
                    <a:ext cx="2444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6"/>
          <p:cNvGraphicFramePr/>
          <p:nvPr/>
        </p:nvGraphicFramePr>
        <p:xfrm>
          <a:off x="4475160" y="1636560"/>
          <a:ext cx="800280" cy="289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15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75160" y="1636560"/>
                    <a:ext cx="8002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16"/>
          <p:cNvGraphicFramePr/>
          <p:nvPr/>
        </p:nvGraphicFramePr>
        <p:xfrm>
          <a:off x="3738600" y="2001960"/>
          <a:ext cx="977760" cy="377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17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38600" y="2001960"/>
                    <a:ext cx="9777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16"/>
          <p:cNvGraphicFramePr/>
          <p:nvPr/>
        </p:nvGraphicFramePr>
        <p:xfrm>
          <a:off x="4952880" y="1994040"/>
          <a:ext cx="1600200" cy="377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19" name="Object 1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952880" y="1994040"/>
                    <a:ext cx="16002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16"/>
          <p:cNvGraphicFramePr/>
          <p:nvPr/>
        </p:nvGraphicFramePr>
        <p:xfrm>
          <a:off x="6783480" y="1986120"/>
          <a:ext cx="1466640" cy="377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21" name="Object 1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83480" y="1986120"/>
                    <a:ext cx="14666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16"/>
          <p:cNvGraphicFramePr/>
          <p:nvPr/>
        </p:nvGraphicFramePr>
        <p:xfrm>
          <a:off x="5630760" y="2712960"/>
          <a:ext cx="755640" cy="289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23" name="Object 1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30760" y="2712960"/>
                    <a:ext cx="7556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16"/>
          <p:cNvGraphicFramePr/>
          <p:nvPr/>
        </p:nvGraphicFramePr>
        <p:xfrm>
          <a:off x="5438880" y="3076560"/>
          <a:ext cx="4089240" cy="622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25" name="Object 1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438880" y="3076560"/>
                    <a:ext cx="40892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7840" y="212760"/>
            <a:ext cx="93279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2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ύμφωνα με την αρχή του Pascal, η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πρόσθετη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ίεση που δημιουργεί έν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εξωτερικό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ίτιο σε κάποιο σημείο του υγρού μεταφέρεται αναλλοίωτ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όνο στα σημεία του υγρού που βρίσκονται πλησίον του σημείου στο οποίο επέδρασσε το εξωτερικό αίτι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ε όλα τα σημεία του υγρο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όνο στα σημεία του υγρού που βρίσκονται στην ίδια διεύθυνση με το εξωτερικό αίτι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όνο στα σημεία του υγρού που βρίσκονται σε διεύθυνση κάθετη με την διεύθυνση του εξωτερικού αιτί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148280" y="4311720"/>
          <a:ext cx="315720" cy="44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8280" y="4311720"/>
                    <a:ext cx="3157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7840" y="212760"/>
            <a:ext cx="93279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εξίσωση της συνέχειας είναι συνέπεια της αρχής διατήρησης τη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αχύτητα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Υδροστατικής πίεσ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Ύλ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νέργεια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197240" y="3525840"/>
          <a:ext cx="284400" cy="4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7240" y="3525840"/>
                    <a:ext cx="2844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021200" y="3944880"/>
          <a:ext cx="284040" cy="4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21200" y="3944880"/>
                    <a:ext cx="2840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55520" y="284040"/>
            <a:ext cx="92934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4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ε ένα ιδανικό ρευστό που ρέει κατά μήκος ενός οριζόντιου σωλήνα μεταβλητής διατομής η πίεση του ρευστού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ίναι ανεξάρτητη της ταχύτητας ροής τ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ίναι αντιστρόφως ανάλογη της ταχύτητας ροής τ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υξάνεται, όπου η ταχύτητα ροής αυξάνετα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υξάνεται, όπου η ταχύτητας ροής μειώνετα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5440" y="4959360"/>
          <a:ext cx="977760" cy="4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5440" y="4959360"/>
                    <a:ext cx="977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362320" y="4924440"/>
          <a:ext cx="946080" cy="41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4924440"/>
                    <a:ext cx="9460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930480" y="4871880"/>
          <a:ext cx="946440" cy="47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30480" y="4871880"/>
                    <a:ext cx="946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432400" y="4886280"/>
          <a:ext cx="1041480" cy="44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32400" y="4886280"/>
                    <a:ext cx="10414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297560" y="4923000"/>
          <a:ext cx="946440" cy="411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297560" y="4923000"/>
                    <a:ext cx="946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8000" y="398520"/>
            <a:ext cx="93279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υδροστατική πίεση προκαλεί δυνάμεις που ασκούνται κάθετα σε κάθε επιφάνεια που βρίσκεται μέσα σε ένα υγρ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κεί που πυκνώνουν οι ρευματικές γραμμές η ταχύτητα της ροής αυξάνετα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παροχή είναι μονόμετρο μέγεθος ενώ η πίεση διανυσματικ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εξίσωση του Bernoulli είναι συνέπεια της αρχής διατήρησης της μάζα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ε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ταχύτητα κάθε μορίου ενός ρευστού είναι εφαπτομένη της ρευματικής γραμμή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9160" y="120600"/>
            <a:ext cx="93502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1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δοχείο του σχήματος βρίσκεται στην ατμόσφαιρα, είναι γεμάτο με ιδανικό υγρό και κλείνεται ερμητικά με δύο έμβολ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1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2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τα εμβαδά του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ντίστοιχα συνδέονται με τη σχέση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4Α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Κάθετα στην επιφάνεια του εμβόλ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1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σκούμε δύναμη μέτρ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F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Για να παραμείνουν τα έμβολ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κίνητ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ις αρχικές τους θέσεις, πρέπει ταυτόχρονα στο έμβολ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2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ασκήσουμε κάθετη δύναμη που έχει μέτρ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F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για το οποίο ισχύει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4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61080" y="2565360"/>
            <a:ext cx="3486240" cy="1876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8360" y="2395440"/>
            <a:ext cx="50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Θεωρήστε ότι η πίεση σε όλη την έκταση του υγρού, έχει την ίδια τιμ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9160" y="120600"/>
            <a:ext cx="93502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1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δοχείο του σχήματος βρίσκεται στην ατμόσφαιρα, είναι γεμάτο με ιδανικό υγρό και κλείνεται ερμητικά με δύο έμβολ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1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2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τα εμβαδά του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ντίστοιχα συνδέονται με τη σχέση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4Α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Κάθετα στην επιφάνεια του εμβόλ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1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σκούμε δύναμη μέτρ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F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Για να παραμείνουν τα έμβολ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κίνητ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ις αρχικές τους θέσεις, πρέπει ταυτόχρονα στο έμβολ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2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να ασκήσουμε κάθετη δύναμη που έχει μέτρ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F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για το οποίο ισχύει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4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F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61080" y="2565360"/>
            <a:ext cx="3486240" cy="18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378000" y="2684520"/>
          <a:ext cx="32004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" y="2684520"/>
                    <a:ext cx="3200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03320" y="5311800"/>
          <a:ext cx="20574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320" y="5311800"/>
                    <a:ext cx="2057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251080" y="3225960"/>
          <a:ext cx="271764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51080" y="3225960"/>
                    <a:ext cx="2717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381400" y="5081760"/>
          <a:ext cx="2234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81400" y="5081760"/>
                    <a:ext cx="2234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53080" y="5052960"/>
          <a:ext cx="29210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53080" y="5052960"/>
                    <a:ext cx="2921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390760" y="6059520"/>
          <a:ext cx="101592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90760" y="6059520"/>
                    <a:ext cx="10159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28600" y="4049640"/>
          <a:ext cx="965160" cy="38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" y="4049640"/>
                    <a:ext cx="9651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840120" y="6086520"/>
          <a:ext cx="379440" cy="347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40120" y="6086520"/>
                    <a:ext cx="3794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877000" y="3755880"/>
            <a:ext cx="863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3386160"/>
            <a:ext cx="72864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93040" y="3678120"/>
            <a:ext cx="55080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32800" y="3648240"/>
            <a:ext cx="5587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642520" y="3784680"/>
          <a:ext cx="48240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642520" y="3784680"/>
                    <a:ext cx="482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843520" y="3798720"/>
          <a:ext cx="50796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43520" y="3798720"/>
                    <a:ext cx="507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82040" y="3178080"/>
          <a:ext cx="48240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682040" y="3178080"/>
                    <a:ext cx="482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80320" y="2884320"/>
          <a:ext cx="507960" cy="457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880320" y="2884320"/>
                    <a:ext cx="507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00080" y="4527720"/>
          <a:ext cx="3276360" cy="457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0080" y="4527720"/>
                    <a:ext cx="3276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04840" y="3444840"/>
          <a:ext cx="2006640" cy="457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4840" y="3444840"/>
                    <a:ext cx="2006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85880" y="6097680"/>
          <a:ext cx="1371600" cy="3808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85880" y="609768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020000" y="3630600"/>
          <a:ext cx="355680" cy="4572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020000" y="3630600"/>
                    <a:ext cx="355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3200" y="120600"/>
            <a:ext cx="935676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B2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ο διάγραμμα βλέπουμε τις γραφικέ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παραστάσεις των παροχών σε σχέση με το χρόνο κατά τ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άδειασμ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δύο δοχείω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1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(2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πό τις βρύσες τους. Τ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δύο δοχεία αρχικά ήταν εντελώ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γεμάτ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 νερό, που τ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θεωρούμε ιδανικό ρευστό. Για τις χωρητικότητες των δύ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δοχείων ισχύει: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&gt; V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&lt; V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783" t="5125" r="5349" b="2562"/>
          <a:stretch/>
        </p:blipFill>
        <p:spPr>
          <a:xfrm>
            <a:off x="5970600" y="1892160"/>
            <a:ext cx="3751200" cy="3399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5520" y="184932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Σε ένα διάγραμμα Παροχής- Χρόνου, </a:t>
            </a:r>
            <a:br>
              <a:rPr sz="2000"/>
            </a:b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το εμβαδό μετρά όγκο του υγρο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69960" y="2673360"/>
          <a:ext cx="13716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2673360"/>
                    <a:ext cx="1371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46040" y="4575240"/>
          <a:ext cx="325116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040" y="4575240"/>
                    <a:ext cx="32511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60400" y="4210200"/>
          <a:ext cx="1371600" cy="40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0400" y="4210200"/>
                    <a:ext cx="137160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36680" y="3127320"/>
          <a:ext cx="294624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6680" y="3127320"/>
                    <a:ext cx="2946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174680" y="5708520"/>
          <a:ext cx="889200" cy="43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74680" y="5708520"/>
                    <a:ext cx="8892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622600" y="5680080"/>
          <a:ext cx="379440" cy="441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22600" y="5680080"/>
                    <a:ext cx="3794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7:56:58Z</dcterms:created>
  <dc:creator>Nikos</dc:creator>
  <dc:description/>
  <dc:language>en-US</dc:language>
  <cp:lastModifiedBy>Nikos</cp:lastModifiedBy>
  <dcterms:modified xsi:type="dcterms:W3CDTF">2020-04-24T16:13:20Z</dcterms:modified>
  <cp:revision>2075</cp:revision>
  <dc:subject/>
  <dc:title>Διαφάνεια 1</dc:title>
</cp:coreProperties>
</file>