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babylache%5B1%5D.wav" ContentType="audio/x-wav"/>
  <Override PartName="/ppt/media/image8.gif" ContentType="image/gif"/>
  <Override PartName="/ppt/media/image2.gif" ContentType="image/gif"/>
  <Override PartName="/ppt/media/image3.gif" ContentType="image/gif"/>
  <Override PartName="/ppt/media/baby1.wav" ContentType="audio/x-wav"/>
  <Override PartName="/ppt/media/image7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9BB-4BE4-49EE-B043-2EC4DA34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888-DBF0-4A66-855F-952CB991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257-73C7-4615-B95C-81A37697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400-5B4A-4B55-B1BC-CC792F7D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4244-8247-4193-9AD8-8A4A4528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95DC-9834-43AD-A108-26AE6F3F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E69B-F3AC-48BF-9879-A86E6E66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76F2-000D-4C68-83EC-2CAA33B9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765E-1436-4521-B81A-597C8094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7B4D-AB8F-4260-9D1A-8D044849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EA75-8999-4C65-B02A-97021DF7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20C-9C6F-422A-BD5E-57BA79D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A9C-67BC-4E3D-A5DF-1980F53D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A439-9805-4738-9A10-93F04594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2AD3-B453-4C67-AA97-833F5653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9339-5A3D-49CF-840E-1D492F5F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6885-9A6A-4330-9E29-5A02C092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EF5-8065-445E-9529-C9C7AB01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8C5-67B3-4DE0-B6E0-9AABC4CB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2A0-7E6D-4338-9496-FE6008F6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6AC-F720-4CA9-806F-27736791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B80-174E-4A41-B745-D2A49D87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6EA-C0A3-4112-A096-6372A51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93C-57FF-45FC-8E0F-7CE50621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0c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d7fefe"/>
                  </a:gs>
                  <a:gs pos="100000">
                    <a:srgbClr val="00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ffefe"/>
                  </a:gs>
                  <a:gs pos="100000">
                    <a:srgbClr val="00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CAD9-A5F6-4475-AE82-C4226B4F959A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0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0c0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d7fefe"/>
                    </a:gs>
                    <a:gs pos="100000">
                      <a:srgbClr val="00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ffefe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305A-E522-40B4-8766-02BE7E781AE6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Περιγράφω μια ημέρα μου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209680" y="3885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Κάνε κλικ για να γράψεις το όνομά σου</a:t>
            </a:r>
            <a:r>
              <a:rPr b="0" lang="de-DE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7:30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π.μ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2724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8: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1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π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1976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2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00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2666880" cy="21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3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15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52480" y="3728880"/>
            <a:ext cx="1981440" cy="18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6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3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314360" y="3200400"/>
            <a:ext cx="22827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8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0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066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10:1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5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378080" y="2971800"/>
            <a:ext cx="19573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21:41:40Z</dcterms:created>
  <dc:creator>animiert von Ute.Zohles@web.de</dc:creator>
  <dc:description>www.FunFriends.de</dc:description>
  <dc:language>en-US</dc:language>
  <cp:lastModifiedBy>Βλιώρας Λαμπρος</cp:lastModifiedBy>
  <dcterms:modified xsi:type="dcterms:W3CDTF">2007-03-14T20:36:03Z</dcterms:modified>
  <cp:revision>87</cp:revision>
  <dc:subject/>
  <dc:title>Tagebuch eines Kleinkindes</dc:title>
</cp:coreProperties>
</file>