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babylache%5B1%5D.wav" ContentType="audio/x-wav"/>
  <Override PartName="/ppt/media/image8.gif" ContentType="image/gif"/>
  <Override PartName="/ppt/media/image2.gif" ContentType="image/gif"/>
  <Override PartName="/ppt/media/image3.gif" ContentType="image/gif"/>
  <Override PartName="/ppt/media/baby1.wav" ContentType="audio/x-wav"/>
  <Override PartName="/ppt/media/image7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C44-A429-4FA0-9225-9BAFB2B2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D7C-2D93-45B1-86C1-6A413FAF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534-65CF-4A0A-9060-85D8A1FE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009-31D1-4422-9AB0-50CAE5E3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614A-37A3-4F53-B1F1-36235C95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703C-9103-4A35-9EDB-68D7D73A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7EEF-6071-401E-9BD6-2BB4172A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DA44-5E55-4996-ABAA-2AECDCAF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F2B3-25B5-4EFC-A00A-B7E43A3B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E534-460F-4ACE-AFDE-55CE664D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F369-9AA2-49B4-BA9E-C2A375C3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AFC-9D18-464E-AB06-88F324DE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7252-A93E-4B6B-912D-E3260DF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06FD-90B9-4B6D-83F8-D3D3F77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9BB0-275C-4C06-9ACD-C2FF4019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50B-5B8E-4DB5-94D2-4FCF9857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D046-9591-4C1F-8C32-7928B1FB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71F-1D67-4BB1-91FA-6789E22F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647-2175-4058-849B-66D1D894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888-DBBF-4435-B72B-68B308D5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351-6390-4E1F-97DB-B74FE33D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EE0-6FE0-4CF1-B57B-ADA4876B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791-A990-4912-BE07-7B765911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7C0-0DC2-4A7F-BB5A-5F2AFE2D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0c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d7fefe"/>
                  </a:gs>
                  <a:gs pos="100000">
                    <a:srgbClr val="00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ffefe"/>
                  </a:gs>
                  <a:gs pos="100000">
                    <a:srgbClr val="00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3E29-3C47-4F07-ABFB-FD92326D296E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00c0c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0c0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d7fefe"/>
                    </a:gs>
                    <a:gs pos="100000">
                      <a:srgbClr val="00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ffefe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3CF3-833A-4A5F-A964-B77EDD79FC72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Περιγράφω μια ημέρα μου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209680" y="3885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Κάνε κλικ για να γράψεις το όνομά σου</a:t>
            </a:r>
            <a:r>
              <a:rPr b="0" lang="de-DE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7:30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π.μ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2724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8: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1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π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1976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2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00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2666880" cy="21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3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15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52480" y="3728880"/>
            <a:ext cx="1981440" cy="18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6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3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314360" y="3200400"/>
            <a:ext cx="22827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8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0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066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10:1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5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378080" y="2971800"/>
            <a:ext cx="19573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21:41:40Z</dcterms:created>
  <dc:creator>animiert von Ute.Zohles@web.de</dc:creator>
  <dc:description>www.FunFriends.de</dc:description>
  <dc:language>en-US</dc:language>
  <cp:lastModifiedBy>Βλιώρας Λαμπρος</cp:lastModifiedBy>
  <dcterms:modified xsi:type="dcterms:W3CDTF">2007-03-14T20:36:03Z</dcterms:modified>
  <cp:revision>87</cp:revision>
  <dc:subject/>
  <dc:title>Tagebuch eines Kleinkindes</dc:title>
</cp:coreProperties>
</file>